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notesSlide1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2.jpeg" ContentType="image/jpeg"/>
  <Override PartName="/ppt/media/image7.png" ContentType="image/png"/>
  <Override PartName="/ppt/media/image9.jpeg" ContentType="image/jpeg"/>
  <Override PartName="/ppt/media/image11.jpeg" ContentType="image/jpe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  <p:sldId id="289" r:id="rId48"/>
    <p:sldId id="290" r:id="rId49"/>
    <p:sldId id="291" r:id="rId50"/>
    <p:sldId id="292" r:id="rId51"/>
    <p:sldId id="293" r:id="rId52"/>
    <p:sldId id="294" r:id="rId53"/>
    <p:sldId id="295" r:id="rId54"/>
    <p:sldId id="296" r:id="rId55"/>
    <p:sldId id="297" r:id="rId56"/>
  </p:sldIdLst>
  <p:sldSz cx="9144000" cy="6858000"/>
  <p:notesSz cx="6997700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slide" Target="slides/slide34.xml"/><Relationship Id="rId49" Type="http://schemas.openxmlformats.org/officeDocument/2006/relationships/slide" Target="slides/slide35.xml"/><Relationship Id="rId50" Type="http://schemas.openxmlformats.org/officeDocument/2006/relationships/slide" Target="slides/slide36.xml"/><Relationship Id="rId51" Type="http://schemas.openxmlformats.org/officeDocument/2006/relationships/slide" Target="slides/slide37.xml"/><Relationship Id="rId52" Type="http://schemas.openxmlformats.org/officeDocument/2006/relationships/slide" Target="slides/slide38.xml"/><Relationship Id="rId53" Type="http://schemas.openxmlformats.org/officeDocument/2006/relationships/slide" Target="slides/slide39.xml"/><Relationship Id="rId54" Type="http://schemas.openxmlformats.org/officeDocument/2006/relationships/slide" Target="slides/slide40.xml"/><Relationship Id="rId55" Type="http://schemas.openxmlformats.org/officeDocument/2006/relationships/slide" Target="slides/slide41.xml"/><Relationship Id="rId56" Type="http://schemas.openxmlformats.org/officeDocument/2006/relationships/slide" Target="slides/slide4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0" y="0"/>
            <a:ext cx="6998400" cy="927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dt" idx="37"/>
          </p:nvPr>
        </p:nvSpPr>
        <p:spPr>
          <a:xfrm>
            <a:off x="3962160" y="0"/>
            <a:ext cx="303372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sldImg"/>
          </p:nvPr>
        </p:nvSpPr>
        <p:spPr>
          <a:xfrm>
            <a:off x="1182600" y="696600"/>
            <a:ext cx="4633920" cy="3475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0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ftr" idx="38"/>
          </p:nvPr>
        </p:nvSpPr>
        <p:spPr>
          <a:xfrm>
            <a:off x="-360" y="8805600"/>
            <a:ext cx="3033720" cy="4633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 type="sldNum" idx="39"/>
          </p:nvPr>
        </p:nvSpPr>
        <p:spPr>
          <a:xfrm>
            <a:off x="3962160" y="8805600"/>
            <a:ext cx="3033720" cy="4633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56ABF356-186E-4EC2-9CE8-4B43D2186C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Rectangle 7"/>
          <p:cNvSpPr/>
          <p:nvPr/>
        </p:nvSpPr>
        <p:spPr>
          <a:xfrm>
            <a:off x="3962520" y="8805960"/>
            <a:ext cx="303372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B450231A-B523-472E-A259-5030EE6318B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1"/>
          <p:cNvSpPr>
            <a:spLocks noGrp="1"/>
          </p:cNvSpPr>
          <p:nvPr>
            <p:ph type="sldImg"/>
          </p:nvPr>
        </p:nvSpPr>
        <p:spPr>
          <a:xfrm>
            <a:off x="1182600" y="696960"/>
            <a:ext cx="4633920" cy="3475080"/>
          </a:xfrm>
          <a:prstGeom prst="rect">
            <a:avLst/>
          </a:prstGeom>
          <a:ln w="0">
            <a:noFill/>
          </a:ln>
        </p:spPr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0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is a glossary that comes along with this set of modules. Each term in blue print in every module is defined in this glossar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Rectangle 7"/>
          <p:cNvSpPr/>
          <p:nvPr/>
        </p:nvSpPr>
        <p:spPr>
          <a:xfrm>
            <a:off x="3962520" y="8805960"/>
            <a:ext cx="303372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25056758-E17C-45BE-978D-5A7DDAD05E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1"/>
          <p:cNvSpPr>
            <a:spLocks noGrp="1"/>
          </p:cNvSpPr>
          <p:nvPr>
            <p:ph type="sldImg"/>
          </p:nvPr>
        </p:nvSpPr>
        <p:spPr>
          <a:xfrm>
            <a:off x="1182600" y="696960"/>
            <a:ext cx="4633920" cy="3475080"/>
          </a:xfrm>
          <a:prstGeom prst="rect">
            <a:avLst/>
          </a:prstGeom>
          <a:ln w="0">
            <a:noFill/>
          </a:ln>
        </p:spPr>
      </p:sp>
      <p:sp>
        <p:nvSpPr>
          <p:cNvPr id="810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0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llowing this sculpting analogy, the modification step could be coloring the eyes blu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Rectangle 7"/>
          <p:cNvSpPr/>
          <p:nvPr/>
        </p:nvSpPr>
        <p:spPr>
          <a:xfrm>
            <a:off x="3962520" y="8805960"/>
            <a:ext cx="303372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5E774E4F-4532-482F-922B-FD6328EE77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1"/>
          <p:cNvSpPr>
            <a:spLocks noGrp="1"/>
          </p:cNvSpPr>
          <p:nvPr>
            <p:ph type="sldImg"/>
          </p:nvPr>
        </p:nvSpPr>
        <p:spPr>
          <a:xfrm>
            <a:off x="1182600" y="696960"/>
            <a:ext cx="4633920" cy="3475080"/>
          </a:xfrm>
          <a:prstGeom prst="rect">
            <a:avLst/>
          </a:prstGeom>
          <a:ln w="0">
            <a:noFill/>
          </a:ln>
        </p:spPr>
      </p:sp>
      <p:sp>
        <p:nvSpPr>
          <p:cNvPr id="813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0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llowing this sculpting analogy, the modification step could be coloring the eyes blu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Rectangle 7"/>
          <p:cNvSpPr/>
          <p:nvPr/>
        </p:nvSpPr>
        <p:spPr>
          <a:xfrm>
            <a:off x="3962520" y="8805960"/>
            <a:ext cx="303372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AD7F8389-A8D7-4B22-9337-27C7BCCE70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816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P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Rectangle 7"/>
          <p:cNvSpPr/>
          <p:nvPr/>
        </p:nvSpPr>
        <p:spPr>
          <a:xfrm>
            <a:off x="3962520" y="8805960"/>
            <a:ext cx="303372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BDED7353-13F6-44A8-92B7-3318FBE2A7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819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P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5DE8C-96AE-4A89-9B1B-B4F22AF17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A687F-86D8-4E7A-97BA-483152944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F43582-E6AD-4B2C-951F-1AE37CD7E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8EE985-501A-42F8-86A3-4F3B773BC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2FDCDA-5581-470D-A132-0D3F00A69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E6A08C-4F0F-4E94-A40B-0B0EB5574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CE36C3-4DC2-4679-ABD7-59462C758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D4A901-05FF-4F89-9F28-0CEBED29E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E04346-CBC8-4C9D-A8D9-EFBDC9425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CD5E69-F873-4B6D-87F6-75BFB949E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53577C-E5BD-4152-A690-9990ED13C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A72EA5-6B76-4490-829F-D70E8A6ED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FB54E-B4F4-4E01-B1CC-2D19F53F7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933366-C939-4F10-85AB-44EBF6950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1A458C-829F-4917-933B-74640A611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0C5F98-CD9E-48F4-8255-4C2DD9A97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B8D171-E40D-4528-B605-9756BA46C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68C2B7-BA43-4475-8F07-E916B0D7D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9FC953-7679-48F0-94E8-92A4905BB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8BF5C0-B013-48CA-829B-570DA5B30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20942B-5FBA-4945-9834-F411271B9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F0C284-DAA0-4F20-8974-9DC889013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2D5A10-C59E-4A62-8D1E-29F41A0A2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8B335-530B-4A20-B180-AB9A52417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A19D15-2D04-4F37-B74E-57A3DD183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F58CD3-A4CB-4E8D-9108-4662E01B1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1BBB7D-C381-4129-BC1D-1FBC0542A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F69324-7DCB-493E-B51C-CDA5B627C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0EEF9A-A403-475B-B941-D7F574190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89794A-F38D-4581-BCCF-B2B56A74C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43BBB7-F9C2-4B38-904F-F0AD0F334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109171-72B1-4A74-82F2-E82DC6F0E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FF1C23-9B86-447A-B8C5-24349281F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A23598-1040-4917-BBA0-8ED1564D7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CA135-D6AD-4E14-AF9E-EDBB1DE91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604FBB-877A-4DB4-A569-643853E8B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1C4D8E-CFF6-48FA-AB12-FAE9A66EC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8255EC-4F09-4031-9EBD-8DCFE4992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6B495A-185C-449C-BDD1-93903BD5C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3D728E-282B-4CAB-BD24-C796E64C0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10CD8E-F32C-45B2-B475-80F71F25E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E42EC2-D7BE-4C04-A0CB-B6556D0EB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ED2459-B393-4D74-9C78-A47FAAE6A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CC45EC-9B8B-4CB6-8537-759D4C8A7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0F26C0-0704-4BB4-9F3A-2BE3D554A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67689-3BA7-4EC8-969E-1DA95B305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A45562-9F4E-4191-8096-C83DBF70F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C47C9C-5731-4E34-8AA4-920A3E802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EB82E1-A88F-4CC6-9405-4924D3F5C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195C9D-AEC7-4F4F-8616-2842F0D05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420AE1-B74E-4F09-8E60-D55289144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4AEAE-C5C0-4C3B-821B-A474DA42B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BA9D9-8831-49F6-99F7-D3E7F6CA5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5FFEC-4B25-4164-BFD0-B94D18191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D4C1D-416F-4F4B-B600-BBCA56E65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12246-841A-4CD5-B462-7C7487367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87381-8E70-4528-BE28-7430E3365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9C15E-BBA9-46A7-A033-DD7034FC5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6AF9C-32E7-46E4-B281-DF821ACFE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494A7-2362-4304-AF4B-F2D0A3A7D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08860-5CDA-4891-806C-48A60F78F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BE72B-4A24-4B78-B84C-564930DF4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E1B857-E7DC-44F7-966E-4D27AD0A8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919BA2-19D9-4E54-BDEA-EC3696715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16CBA6-9CC9-4EB8-8C2E-3A7D0DEB3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EFFE4D-9AD6-4C93-B442-52C59327E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F081BA-A76A-4F2B-AC65-0A540248E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8EFA1-5430-4F87-BD01-4557444BE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A9F682-EC06-440D-846A-6E09E69E2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5CA2A5-3A44-4AF1-96C6-10BC66B13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0787DC-69D2-4C96-A74A-DFCCD1274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5A5E06-247B-4D97-AB29-597732B15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2F7F8B-6B9A-4802-9BB3-5525709C3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75AAC6-FEA2-4114-881D-2E83D07EA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698FDD-EBE1-46E0-8AAB-61203DB52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BF816F-FFE7-4F63-B9C0-E6A6A6EF0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24163A-28FE-4E43-B33B-A03EED0A5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31D06C-3709-40A3-969F-8E5A730DF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EF1C9-9D1E-45BA-8D77-8956FC721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A835FA-992A-4032-B2BD-C00677670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2F58DB-3F61-4696-80BB-EFCB37B5E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8CC13B-B891-4F9F-A860-566C646E0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56CEA8-F097-4C8F-88BF-B3A99D149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645DE7-F4A8-44B7-A927-3A2EF16D0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B5636D-C798-43CC-8FE9-2F9AF113F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E95039-10DB-4D5E-A94C-0071AE971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F41B31-8A12-42E4-9FD9-F7FC13A3E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B29D13-F8B9-4ACA-A605-F4D1CE1B8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5721DF-21FA-4C2A-A608-CCFF2DE1F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FC393-6A25-4070-A9F5-54CE357AD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0D2661-58B3-45CD-9C6C-6801AFEED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D85569-CDA9-4B63-B8E9-8209D09D4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E21977-EE9B-4B95-A833-A988FC7AB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BBC9B8-DE37-450F-99B2-1A8DFE96C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8BF13E-8C40-4364-9685-5A64637DA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19828D-76D5-4EE7-B08A-57FE26DF2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06D2E7-CECA-48CA-9899-5FAC9D040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C75DD2-EF35-437D-886B-068376470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6F9B2B-22BF-4A18-8B6B-F8074EC69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A4F515-4387-45A2-820E-75AB01248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2C343-1B22-427D-8854-05926C249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D8AD22-69F9-4BB6-8B16-8BD7FFA72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42765F-2BB0-4373-A45A-6B4DCE5EB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82D1DA-F24E-4BFD-9663-D49B31434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54B726-E556-4B66-A58C-AC284F127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27A994-AC1F-46C5-8959-4489F52D8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696C93-16D1-4AB9-A2F3-77A21555E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9B1227-167E-48FC-8289-0AEBC0CC2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BC072E-2037-4285-B929-7830D3C8B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E3F6FD-9823-47BE-9E86-83DBAFD2D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E15C0B-1A04-4F60-BE74-B85496078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43544-994B-4384-983E-9C9A80710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5B97B9-CFBA-415A-BA74-E886A784F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F1D834-3CF1-44A6-AEEF-981C78AE6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F58F59-C41F-431F-ADBB-ECFA34B19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10DCDE-B77E-4930-8442-63CB90FCC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C0873C-E090-4D65-8F81-C33E4957B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516826-AFA0-4585-9425-B1F243BFF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7A3FDB-63C0-444A-9510-2020540A4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BC5203-8315-4628-A570-190DB304F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89190D-2511-4107-B0DF-207858362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FE8A4B-D8D7-41A3-A26C-4837784F6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C22E4-AF76-4958-9EA1-993A0FEFA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A34017-24B2-4FA0-9564-A9C8B2AC0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AF8BC6-F678-4D6C-85CB-2F465BA1B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4F7F47-65D3-43E2-9ADD-0BE02F8A9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79240A-5B06-4DA5-BB55-B02B60F51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130216-EE9C-4C1C-AB1A-7151A49B2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2EF882-A8A0-4D08-897A-A254603A0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BE6C94-F434-46D2-939B-09D52D69D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F032BA-FBD0-4BF2-8A0C-34486CE02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A6234A-7C70-4078-8812-5C73B460A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3C1A32-67A5-4EF9-BB8A-A8F51B035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27DB7-E1C9-43BC-BFD6-C0AF682D4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880459-D276-4682-A801-4A1C87F22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ECD8AE-10BB-4DAE-97FC-F40B6745A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4A2D76-DDC4-4449-AF29-40A2F6E5B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35614B-AD72-45A4-AD83-6F4E0FC1A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B2D488-F6D8-4D75-ADA2-48B99DB51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6E7D5C-8DD8-4E4D-AD88-418AD4E5F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BE6D38-AD97-413A-A592-08737DBE8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F5678A-9E1B-457A-9DAE-A9020751A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83A270-C14F-4564-818F-868F0254C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D5C1E2-869A-4DD1-B41F-7D2883138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85640" y="6381360"/>
            <a:ext cx="48006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Copyright April 2009 The Pennsylvania State Univers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3793B-E396-4985-A123-6534006F7E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2285640" y="6381360"/>
            <a:ext cx="48006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pyright April 2009 The Pennsylvania State Univers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AE98C-52DC-4564-9568-38F0FE844B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2285640" y="6381360"/>
            <a:ext cx="48006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pyright April 2009 The Pennsylvania State Univers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65E2B-F76B-4CE2-A0F2-4730FC09F9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2285640" y="6381360"/>
            <a:ext cx="48006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pyright April 2009 The Pennsylvania State Univers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4897F-A840-429C-89CA-5C50908718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2285640" y="6381360"/>
            <a:ext cx="48006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pyright April 2009 The Pennsylvania State Univers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FC206-8882-4CFF-97A3-680804BE8F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2285640" y="6381360"/>
            <a:ext cx="48006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pyright April 2009 The Pennsylvania State Univers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EBE3F-E95A-475B-AE58-625447254A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2285640" y="6381360"/>
            <a:ext cx="48006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pyright April 2009 The Pennsylvania State Univers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79D65-F429-4B62-B9D4-10EEDAEDC4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2285640" y="6381360"/>
            <a:ext cx="48006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pyright April 2009 The Pennsylvania State Univers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EF19F-22D3-4560-8F18-0A021C1370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2285640" y="6381360"/>
            <a:ext cx="48006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pyright April 2009 The Pennsylvania State Univers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E1D99-1D36-4039-8A4E-AD3B8D5AEF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2285640" y="6381360"/>
            <a:ext cx="48006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pyright April 2009 The Pennsylvania State Univers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E89E9-0652-4C46-BB74-CB54096808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2285640" y="6381360"/>
            <a:ext cx="48006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pyright April 2009 The Pennsylvania State Univers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A9DDE-E77A-45BB-B47B-750EE33549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2285640" y="6381360"/>
            <a:ext cx="48006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pyright April 2009 The Pennsylvania State Univers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37C94-E908-4D5D-B60F-78A2228C9B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hyperlink" Target="http://www.pattonbros.com/" TargetMode="External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/Nano%20Modules%20Glossary%20(3).docx" TargetMode="External"/><Relationship Id="rId2" Type="http://schemas.openxmlformats.org/officeDocument/2006/relationships/hyperlink" Target="file:///Nano%20Modules%20Glossary%20(3).docx" TargetMode="External"/><Relationship Id="rId3" Type="http://schemas.openxmlformats.org/officeDocument/2006/relationships/hyperlink" Target="http://www.matecnetworks.org/nano4me/glossary/glossary.html" TargetMode="External"/><Relationship Id="rId4" Type="http://schemas.openxmlformats.org/officeDocument/2006/relationships/hyperlink" Target="file:///Nano%20Modules%20Glossary%20(3).docx" TargetMode="External"/><Relationship Id="rId5" Type="http://schemas.openxmlformats.org/officeDocument/2006/relationships/hyperlink" Target="http://www.matecnetworks.org/nano4me/glossary/glossary.html" TargetMode="External"/><Relationship Id="rId6" Type="http://schemas.openxmlformats.org/officeDocument/2006/relationships/hyperlink" Target="file:///Nano%20Modules%20Glossary%20(3).docx" TargetMode="External"/><Relationship Id="rId7" Type="http://schemas.openxmlformats.org/officeDocument/2006/relationships/hyperlink" Target="http://www.matecnetworks.org/nano4me/glossary/glossary.html" TargetMode="External"/><Relationship Id="rId8" Type="http://schemas.openxmlformats.org/officeDocument/2006/relationships/hyperlink" Target="http://www.matecnetworks.org/nano4me/glossary/glossary.html" TargetMode="External"/><Relationship Id="rId9" Type="http://schemas.openxmlformats.org/officeDocument/2006/relationships/hyperlink" Target="http://www.matecnetworks.org/nano4me/glossary/glossary.html" TargetMode="External"/><Relationship Id="rId10" Type="http://schemas.openxmlformats.org/officeDocument/2006/relationships/hyperlink" Target="file:///Nano%20Modules%20Glossary%20(3).docx" TargetMode="External"/><Relationship Id="rId1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file:///Nano%20Modules%20Glossary%20(3).docx" TargetMode="External"/><Relationship Id="rId2" Type="http://schemas.openxmlformats.org/officeDocument/2006/relationships/hyperlink" Target="file:///Nano%20Modules%20Glossary%20(3).docx" TargetMode="External"/><Relationship Id="rId3" Type="http://schemas.openxmlformats.org/officeDocument/2006/relationships/hyperlink" Target="file:///Nano%20Modules%20Glossary%20(3).docx" TargetMode="External"/><Relationship Id="rId4" Type="http://schemas.openxmlformats.org/officeDocument/2006/relationships/hyperlink" Target="file:///Nano%20Modules%20Glossary%20(3).docx" TargetMode="External"/><Relationship Id="rId5" Type="http://schemas.openxmlformats.org/officeDocument/2006/relationships/hyperlink" Target="file:///Nano%20Modules%20Glossary%20(3).docx" TargetMode="External"/><Relationship Id="rId6" Type="http://schemas.openxmlformats.org/officeDocument/2006/relationships/hyperlink" Target="file:///Nano%20Modules%20Glossary%20(3).docx" TargetMode="External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file:///Nano%20Modules%20Glossary%20(3).docx" TargetMode="External"/><Relationship Id="rId2" Type="http://schemas.openxmlformats.org/officeDocument/2006/relationships/hyperlink" Target="file:///Nano%20Modules%20Glossary%20(3).docx" TargetMode="External"/><Relationship Id="rId3" Type="http://schemas.openxmlformats.org/officeDocument/2006/relationships/hyperlink" Target="http://www.matecnetworks.org/nano4me/glossary/glossary.html" TargetMode="External"/><Relationship Id="rId4" Type="http://schemas.openxmlformats.org/officeDocument/2006/relationships/hyperlink" Target="http://www.matecnetworks.org/nano4me/glossary/glossary.html" TargetMode="External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8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matecnetworks.org/nano4me/glossary/glossary.html" TargetMode="External"/><Relationship Id="rId2" Type="http://schemas.openxmlformats.org/officeDocument/2006/relationships/slideLayout" Target="../slideLayouts/slideLayout8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atecnetworks.org/nano4me/glossary/glossary.html" TargetMode="External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Nano%20Modules%20Glossary%20(3).docx" TargetMode="External"/><Relationship Id="rId2" Type="http://schemas.openxmlformats.org/officeDocument/2006/relationships/hyperlink" Target="file:///Nano%20Modules%20Glossary%20(3).docx" TargetMode="External"/><Relationship Id="rId3" Type="http://schemas.openxmlformats.org/officeDocument/2006/relationships/hyperlink" Target="file:///Nano%20Modules%20Glossary%20(3).docx" TargetMode="External"/><Relationship Id="rId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/Nano%20Modules%20Glossary%20(3).docx" TargetMode="External"/><Relationship Id="rId2" Type="http://schemas.openxmlformats.org/officeDocument/2006/relationships/hyperlink" Target="http://www.matecnetworks.org/nano4me/glossary/glossary.html" TargetMode="External"/><Relationship Id="rId3" Type="http://schemas.openxmlformats.org/officeDocument/2006/relationships/hyperlink" Target="http://www.matecnetworks.org/nano4me/glossary/glossary.html" TargetMode="External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Text Box 2"/>
          <p:cNvSpPr/>
          <p:nvPr/>
        </p:nvSpPr>
        <p:spPr>
          <a:xfrm>
            <a:off x="0" y="16668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R" sz="40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Introducción a la Nanotecnologí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R" sz="40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Módulo #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4"/>
          <p:cNvSpPr/>
          <p:nvPr/>
        </p:nvSpPr>
        <p:spPr>
          <a:xfrm>
            <a:off x="0" y="1371600"/>
            <a:ext cx="914400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¿Cómo se hacen cosas tan pequeña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Introducción a la Nanofabric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1" name="Group 9"/>
          <p:cNvGrpSpPr/>
          <p:nvPr/>
        </p:nvGrpSpPr>
        <p:grpSpPr>
          <a:xfrm>
            <a:off x="1905120" y="3132000"/>
            <a:ext cx="5486400" cy="3575160"/>
            <a:chOff x="1905120" y="3132000"/>
            <a:chExt cx="5486400" cy="3575160"/>
          </a:xfrm>
        </p:grpSpPr>
        <p:graphicFrame>
          <p:nvGraphicFramePr>
            <p:cNvPr id="502" name="Object 2"/>
            <p:cNvGraphicFramePr/>
            <p:nvPr/>
          </p:nvGraphicFramePr>
          <p:xfrm>
            <a:off x="3360600" y="3132000"/>
            <a:ext cx="2132280" cy="2286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03" name="Object 2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360600" y="3132000"/>
                      <a:ext cx="2132280" cy="2286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04" name="Text Box 6"/>
            <p:cNvSpPr/>
            <p:nvPr/>
          </p:nvSpPr>
          <p:spPr>
            <a:xfrm>
              <a:off x="2625480" y="6430680"/>
              <a:ext cx="3817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PR" sz="1200" spc="-1" strike="noStrike">
                  <a:solidFill>
                    <a:srgbClr val="ff0000"/>
                  </a:solidFill>
                  <a:latin typeface="Arial"/>
                  <a:ea typeface="ＭＳ Ｐゴシック"/>
                </a:rPr>
                <a:t>Copyright 2009 The Pennsylvania State Universi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Rectangle 7"/>
            <p:cNvSpPr/>
            <p:nvPr/>
          </p:nvSpPr>
          <p:spPr>
            <a:xfrm>
              <a:off x="1905120" y="5290560"/>
              <a:ext cx="548640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R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La</a:t>
              </a:r>
              <a:r>
                <a:rPr b="0" lang="es-PR" sz="1600" spc="-1" strike="noStrike">
                  <a:solidFill>
                    <a:srgbClr val="92d050"/>
                  </a:solidFill>
                  <a:latin typeface="Arial"/>
                  <a:ea typeface="ＭＳ Ｐゴシック"/>
                </a:rPr>
                <a:t> </a:t>
              </a:r>
              <a:r>
                <a:rPr b="0" lang="es-PR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nanotecnología está impactando todas las cosa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6" name="Rectangle 7"/>
          <p:cNvSpPr/>
          <p:nvPr/>
        </p:nvSpPr>
        <p:spPr>
          <a:xfrm>
            <a:off x="2286000" y="5392800"/>
            <a:ext cx="4308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PR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© patton brothers illustration (</a:t>
            </a:r>
            <a:r>
              <a:rPr b="0" lang="es-PR" sz="1000" spc="-1" strike="noStrike" u="sng">
                <a:solidFill>
                  <a:srgbClr val="0000ff"/>
                </a:solidFill>
                <a:uFillTx/>
                <a:latin typeface="Arial"/>
                <a:ea typeface="ＭＳ Ｐゴシック"/>
                <a:hlinkClick r:id="rId3"/>
              </a:rPr>
              <a:t>www.pattonbros.com</a:t>
            </a:r>
            <a:r>
              <a:rPr b="0" i="1" lang="es-PR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Footer Placeholder 8"/>
          <p:cNvSpPr/>
          <p:nvPr/>
        </p:nvSpPr>
        <p:spPr>
          <a:xfrm>
            <a:off x="1295280" y="6076800"/>
            <a:ext cx="6705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raducción: Prof. Esteban Rosim Fachini – Universidad de Puerto Rico – Recinto de Río Piedr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Text Box 2"/>
          <p:cNvSpPr/>
          <p:nvPr/>
        </p:nvSpPr>
        <p:spPr>
          <a:xfrm>
            <a:off x="-228600" y="147600"/>
            <a:ext cx="8763120" cy="65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ómo se hacen esas cos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Nanofabricación del tipo arriba hacia abajo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ce</a:t>
            </a: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nanoestructura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or repetición de pasos de deposición/remoción (de algunas partes) de películas sobre un sustra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Nanofabricación del tipo </a:t>
            </a: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abajo hacia arriba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uye 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Arial"/>
                <a:hlinkClick r:id="rId5"/>
              </a:rPr>
              <a:t>nanoestructuras</a:t>
            </a: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artir de 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Arial"/>
                <a:hlinkClick r:id="rId6"/>
              </a:rPr>
              <a:t>átomo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Arial"/>
                <a:hlinkClick r:id="rId7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Arial"/>
                <a:hlinkClick r:id="rId8"/>
              </a:rPr>
              <a:t>molécula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Arial"/>
                <a:hlinkClick r:id="rId9"/>
              </a:rPr>
              <a:t>partícula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o combinaciones de est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Arial"/>
                <a:hlinkClick r:id="rId10"/>
              </a:rPr>
              <a:t>Nanofabricación híbrid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mbina elementos de la Nanofabricación de tipo </a:t>
            </a: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arriba hacia abaj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abajo hacia arrib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Footer Placeholder 4"/>
          <p:cNvSpPr/>
          <p:nvPr/>
        </p:nvSpPr>
        <p:spPr>
          <a:xfrm>
            <a:off x="2362320" y="6620040"/>
            <a:ext cx="441936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opyright April 2009 The Pennsylvania State Un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tenid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Rectangle 3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o que es nanofabricaci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ómo y qué se hace por nanofabricaci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ff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Cómo se orienta la nanofabricaci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na visión general de la nanofabricación de arriba hacia abajo y de abajo hacia arriba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anofabricación de arriba hacia abaj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anofabricación de abajo hacia arrib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deas clav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Footer Placeholder 4"/>
          <p:cNvSpPr/>
          <p:nvPr/>
        </p:nvSpPr>
        <p:spPr>
          <a:xfrm>
            <a:off x="2362320" y="6620040"/>
            <a:ext cx="441936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opyright April 2009 The Pennsylvania State Un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Text Box 2"/>
          <p:cNvSpPr/>
          <p:nvPr/>
        </p:nvSpPr>
        <p:spPr>
          <a:xfrm>
            <a:off x="380880" y="1295280"/>
            <a:ext cx="6629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 Box 3"/>
          <p:cNvSpPr/>
          <p:nvPr/>
        </p:nvSpPr>
        <p:spPr>
          <a:xfrm>
            <a:off x="380880" y="1687680"/>
            <a:ext cx="64771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gunas veces no se necesita orient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 fabricación; o sea, no se requie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icionar el objeto en cierto lugar (po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jemplo, nanopartículas en un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spensió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gunas veces se necesita orientar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 sea, se requieren patrones de posicionamiento (por ejemplo, transistores en un sustrat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n patrón de control exter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íbri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 Box 4"/>
          <p:cNvSpPr/>
          <p:nvPr/>
        </p:nvSpPr>
        <p:spPr>
          <a:xfrm>
            <a:off x="0" y="13644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¿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ómo se orienta la Nanofabricación?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3" name="Picture 5" descr=""/>
          <p:cNvPicPr/>
          <p:nvPr/>
        </p:nvPicPr>
        <p:blipFill>
          <a:blip r:embed="rId1"/>
          <a:stretch/>
        </p:blipFill>
        <p:spPr>
          <a:xfrm>
            <a:off x="6858000" y="1828800"/>
            <a:ext cx="2000160" cy="1523880"/>
          </a:xfrm>
          <a:prstGeom prst="rect">
            <a:avLst/>
          </a:prstGeom>
          <a:ln w="0">
            <a:noFill/>
          </a:ln>
        </p:spPr>
      </p:pic>
      <p:pic>
        <p:nvPicPr>
          <p:cNvPr id="544" name="Picture 6" descr=""/>
          <p:cNvPicPr/>
          <p:nvPr/>
        </p:nvPicPr>
        <p:blipFill>
          <a:blip r:embed="rId2"/>
          <a:stretch/>
        </p:blipFill>
        <p:spPr>
          <a:xfrm>
            <a:off x="6916680" y="3962520"/>
            <a:ext cx="2075040" cy="1587240"/>
          </a:xfrm>
          <a:prstGeom prst="rect">
            <a:avLst/>
          </a:prstGeom>
          <a:ln w="0">
            <a:noFill/>
          </a:ln>
        </p:spPr>
      </p:pic>
      <p:sp>
        <p:nvSpPr>
          <p:cNvPr id="545" name="Footer Placeholder 4"/>
          <p:cNvSpPr/>
          <p:nvPr/>
        </p:nvSpPr>
        <p:spPr>
          <a:xfrm>
            <a:off x="2362320" y="6620040"/>
            <a:ext cx="441936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opyright April 2009 The Pennsylvania State Un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 Box 6"/>
          <p:cNvSpPr/>
          <p:nvPr/>
        </p:nvSpPr>
        <p:spPr>
          <a:xfrm>
            <a:off x="7392600" y="3336840"/>
            <a:ext cx="111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Evidenttech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Rectangle 7"/>
          <p:cNvSpPr/>
          <p:nvPr/>
        </p:nvSpPr>
        <p:spPr>
          <a:xfrm>
            <a:off x="7086600" y="5546880"/>
            <a:ext cx="1752480" cy="11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Adaptado de Linda Geppert, </a:t>
            </a:r>
            <a:r>
              <a:rPr b="0" i="1" lang="es-PR" sz="1000" spc="-1" strike="noStrike">
                <a:solidFill>
                  <a:srgbClr val="000000"/>
                </a:solidFill>
                <a:latin typeface="Arial"/>
              </a:rPr>
              <a:t>El increible acto de desvanecimiento de un transistor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IEEE Spectrum, Octubre de  2002, Vol. 39, Número 10, pg. 28-3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Text Box 3"/>
          <p:cNvSpPr/>
          <p:nvPr/>
        </p:nvSpPr>
        <p:spPr>
          <a:xfrm>
            <a:off x="838080" y="2036880"/>
            <a:ext cx="8001000" cy="43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Patrón Impuesto Externamente</a:t>
            </a: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tal enfoque se llama 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litografí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Patrón inheren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usa el tam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ño, formato o enlace químico para imponer cierto patró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Híbrid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mezcla de ambo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n 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Arial"/>
                <a:hlinkClick r:id="rId5"/>
              </a:rPr>
              <a:t>control de un patrón exter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Arial"/>
                <a:hlinkClick r:id="rId6"/>
              </a:rPr>
              <a:t>Híbri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 Box 4"/>
          <p:cNvSpPr/>
          <p:nvPr/>
        </p:nvSpPr>
        <p:spPr>
          <a:xfrm>
            <a:off x="0" y="13644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n el proceso de Fabricación Controlada por Patrón se puede utilizar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Footer Placeholder 4"/>
          <p:cNvSpPr/>
          <p:nvPr/>
        </p:nvSpPr>
        <p:spPr>
          <a:xfrm>
            <a:off x="2362320" y="6620040"/>
            <a:ext cx="441936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opyright April 2009 The Pennsylvania State Un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Text Box 2"/>
          <p:cNvSpPr/>
          <p:nvPr/>
        </p:nvSpPr>
        <p:spPr>
          <a:xfrm>
            <a:off x="380880" y="1295280"/>
            <a:ext cx="6629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838080" y="1360440"/>
            <a:ext cx="8001000" cy="422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PR" sz="3600" spc="-1" strike="noStrike">
                <a:solidFill>
                  <a:srgbClr val="000000"/>
                </a:solidFill>
                <a:latin typeface="Arial"/>
              </a:rPr>
              <a:t>Usar litografía para ubicar, crecer o modificar materiales según patrones sobre una estructura o sustrato, exactamente dónde uno qui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sar litografía para remover materiales de una estructura o sustrato de dónde no se dese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 Box 4"/>
          <p:cNvSpPr/>
          <p:nvPr/>
        </p:nvSpPr>
        <p:spPr>
          <a:xfrm>
            <a:off x="339840" y="152280"/>
            <a:ext cx="8610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so de un Patrón Externo signifi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Footer Placeholder 4"/>
          <p:cNvSpPr/>
          <p:nvPr/>
        </p:nvSpPr>
        <p:spPr>
          <a:xfrm>
            <a:off x="2362320" y="6620040"/>
            <a:ext cx="441936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opyright April 2009 The Pennsylvania State Un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jemplo de un </a:t>
            </a:r>
            <a:r>
              <a:rPr b="0" lang="en-US" sz="40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Patrón Impuesto Externamente</a:t>
            </a:r>
            <a:r>
              <a:rPr b="0" lang="en-US" sz="40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 </a:t>
            </a:r>
            <a:r>
              <a:rPr b="0" lang="en-US" sz="40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(Litografía)</a:t>
            </a:r>
            <a:r>
              <a:rPr b="0" lang="en-US" sz="40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 patrón es transferido de una “máscara” usando luz (fotolitografía) en este ejemp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7" name="Picture 4" descr="UVlith new"/>
          <p:cNvPicPr/>
          <p:nvPr/>
        </p:nvPicPr>
        <p:blipFill>
          <a:blip r:embed="rId5"/>
          <a:stretch/>
        </p:blipFill>
        <p:spPr>
          <a:xfrm>
            <a:off x="2286000" y="2666880"/>
            <a:ext cx="3857760" cy="3811680"/>
          </a:xfrm>
          <a:prstGeom prst="rect">
            <a:avLst/>
          </a:prstGeom>
          <a:ln w="0">
            <a:noFill/>
          </a:ln>
        </p:spPr>
      </p:pic>
      <p:sp>
        <p:nvSpPr>
          <p:cNvPr id="558" name="Line 5"/>
          <p:cNvSpPr/>
          <p:nvPr/>
        </p:nvSpPr>
        <p:spPr>
          <a:xfrm>
            <a:off x="2133720" y="3733920"/>
            <a:ext cx="144756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Line 7"/>
          <p:cNvSpPr/>
          <p:nvPr/>
        </p:nvSpPr>
        <p:spPr>
          <a:xfrm flipH="1">
            <a:off x="5638320" y="472428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8"/>
          <p:cNvSpPr/>
          <p:nvPr/>
        </p:nvSpPr>
        <p:spPr>
          <a:xfrm>
            <a:off x="380880" y="3124080"/>
            <a:ext cx="1905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 patrón es externo a la estructura. Originalmente está estampado aqui (en la “máscar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9"/>
          <p:cNvSpPr/>
          <p:nvPr/>
        </p:nvSpPr>
        <p:spPr>
          <a:xfrm>
            <a:off x="6248520" y="3657600"/>
            <a:ext cx="1904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 patrón es transferido en este local (en este caso usando un material fotosensib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Rectangle 10"/>
          <p:cNvSpPr/>
          <p:nvPr/>
        </p:nvSpPr>
        <p:spPr>
          <a:xfrm>
            <a:off x="533520" y="5105520"/>
            <a:ext cx="1904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 modificación se hace dónde se ha transferido el patr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Line 11"/>
          <p:cNvSpPr/>
          <p:nvPr/>
        </p:nvSpPr>
        <p:spPr>
          <a:xfrm>
            <a:off x="2133720" y="54864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Line 12"/>
          <p:cNvSpPr/>
          <p:nvPr/>
        </p:nvSpPr>
        <p:spPr>
          <a:xfrm>
            <a:off x="2133720" y="5486400"/>
            <a:ext cx="22860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Footer Placeholder 4"/>
          <p:cNvSpPr/>
          <p:nvPr/>
        </p:nvSpPr>
        <p:spPr>
          <a:xfrm>
            <a:off x="2362320" y="6620040"/>
            <a:ext cx="441936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opyright April 2009 The Pennsylvania State Un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extBox 12"/>
          <p:cNvSpPr/>
          <p:nvPr/>
        </p:nvSpPr>
        <p:spPr>
          <a:xfrm>
            <a:off x="5257800" y="6248520"/>
            <a:ext cx="144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Cortesía de CNE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2"/>
          <p:cNvSpPr/>
          <p:nvPr/>
        </p:nvSpPr>
        <p:spPr>
          <a:xfrm>
            <a:off x="380880" y="1295280"/>
            <a:ext cx="6629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 Box 3"/>
          <p:cNvSpPr/>
          <p:nvPr/>
        </p:nvSpPr>
        <p:spPr>
          <a:xfrm>
            <a:off x="609480" y="1701720"/>
            <a:ext cx="8001000" cy="39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sar el tama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ño, la forma, un enlace químico específico o combinaciones de estos para lograr el patrón en la nanofabrica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o se usa un patrón extern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íbrid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685800" y="152280"/>
            <a:ext cx="815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R" sz="4000" spc="-1" strike="noStrike">
                <a:solidFill>
                  <a:srgbClr val="000000"/>
                </a:solidFill>
                <a:latin typeface="Arial"/>
              </a:rPr>
              <a:t>Utilización de patrón inherente significa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Footer Placeholder 4"/>
          <p:cNvSpPr/>
          <p:nvPr/>
        </p:nvSpPr>
        <p:spPr>
          <a:xfrm>
            <a:off x="2362320" y="6620040"/>
            <a:ext cx="441936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opyright April 2009 The Pennsylvania State Un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jemplo de un </a:t>
            </a: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Patrón Inheren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151920" y="144792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 este ejemplo el patrón está establecido por la forma y enlace quím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AutoShape 4"/>
          <p:cNvSpPr/>
          <p:nvPr/>
        </p:nvSpPr>
        <p:spPr>
          <a:xfrm rot="8747400">
            <a:off x="3047760" y="2895480"/>
            <a:ext cx="1143000" cy="990720"/>
          </a:xfrm>
          <a:custGeom>
            <a:avLst/>
            <a:gdLst>
              <a:gd name="textAreaLeft" fmla="*/ 372600 w 1143000"/>
              <a:gd name="textAreaRight" fmla="*/ 770400 w 1143000"/>
              <a:gd name="textAreaTop" fmla="*/ 323280 h 990720"/>
              <a:gd name="textAreaBottom" fmla="*/ 667440 h 990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046" y="7046"/>
                </a:lnTo>
                <a:lnTo>
                  <a:pt x="10800" y="0"/>
                </a:lnTo>
                <a:lnTo>
                  <a:pt x="14554" y="7046"/>
                </a:lnTo>
                <a:lnTo>
                  <a:pt x="21600" y="10800"/>
                </a:lnTo>
                <a:lnTo>
                  <a:pt x="14554" y="14554"/>
                </a:lnTo>
                <a:lnTo>
                  <a:pt x="10800" y="21600"/>
                </a:lnTo>
                <a:lnTo>
                  <a:pt x="7046" y="1455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Line 14"/>
          <p:cNvSpPr/>
          <p:nvPr/>
        </p:nvSpPr>
        <p:spPr>
          <a:xfrm>
            <a:off x="3962520" y="396252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Rectangle 15"/>
          <p:cNvSpPr/>
          <p:nvPr/>
        </p:nvSpPr>
        <p:spPr>
          <a:xfrm>
            <a:off x="457200" y="3657600"/>
            <a:ext cx="2286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l antígeno “encaja” en el anticuerpo por causa de su forma, tam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ño y enlace químico específico, y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 auto ensamb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Line 16"/>
          <p:cNvSpPr/>
          <p:nvPr/>
        </p:nvSpPr>
        <p:spPr>
          <a:xfrm flipV="1">
            <a:off x="3962520" y="35053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Line 17"/>
          <p:cNvSpPr/>
          <p:nvPr/>
        </p:nvSpPr>
        <p:spPr>
          <a:xfrm flipH="1" flipV="1">
            <a:off x="3505320" y="373356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Rectangle 18"/>
          <p:cNvSpPr/>
          <p:nvPr/>
        </p:nvSpPr>
        <p:spPr>
          <a:xfrm>
            <a:off x="4648320" y="3048120"/>
            <a:ext cx="1904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tígeno 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ticuer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Line 19"/>
          <p:cNvSpPr/>
          <p:nvPr/>
        </p:nvSpPr>
        <p:spPr>
          <a:xfrm flipH="1" flipV="1">
            <a:off x="4038480" y="3200400"/>
            <a:ext cx="106704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Line 20"/>
          <p:cNvSpPr/>
          <p:nvPr/>
        </p:nvSpPr>
        <p:spPr>
          <a:xfrm flipH="1">
            <a:off x="4191120" y="3886200"/>
            <a:ext cx="9144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362320" y="6620040"/>
            <a:ext cx="441936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opyright April 2009 The Pennsylvania State Un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Box 12"/>
          <p:cNvSpPr/>
          <p:nvPr/>
        </p:nvSpPr>
        <p:spPr>
          <a:xfrm>
            <a:off x="2590920" y="3886200"/>
            <a:ext cx="1447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Cortesía de CNE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tenid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Rectangle 3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o que es nanofabricaci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ómo y qué se hace por nanofabricaci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ómo se orienta la nanofabricaci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ff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Una visión general de la nanofabricación de arriba hacia abajo y de abajo hacia arriba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anofabricación de arriba hacia abaj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anofabricación de abajo hacia arrib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deas clav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Footer Placeholder 4"/>
          <p:cNvSpPr/>
          <p:nvPr/>
        </p:nvSpPr>
        <p:spPr>
          <a:xfrm>
            <a:off x="2362320" y="6620040"/>
            <a:ext cx="441936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opyright April 2009 The Pennsylvania State Un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Nanofabricación del tipo “Arriba Hacia Abajo” se parece a Esculpi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7" name="Picture 3" descr="sculp06"/>
          <p:cNvPicPr/>
          <p:nvPr/>
        </p:nvPicPr>
        <p:blipFill>
          <a:blip r:embed="rId1"/>
          <a:stretch/>
        </p:blipFill>
        <p:spPr>
          <a:xfrm>
            <a:off x="571680" y="1981080"/>
            <a:ext cx="952200" cy="1428840"/>
          </a:xfrm>
          <a:prstGeom prst="rect">
            <a:avLst/>
          </a:prstGeom>
          <a:ln w="0">
            <a:noFill/>
          </a:ln>
        </p:spPr>
      </p:pic>
      <p:pic>
        <p:nvPicPr>
          <p:cNvPr id="588" name="Picture 4" descr="sculp07"/>
          <p:cNvPicPr/>
          <p:nvPr/>
        </p:nvPicPr>
        <p:blipFill>
          <a:blip r:embed="rId2"/>
          <a:stretch/>
        </p:blipFill>
        <p:spPr>
          <a:xfrm>
            <a:off x="7772400" y="3809880"/>
            <a:ext cx="952560" cy="1428840"/>
          </a:xfrm>
          <a:prstGeom prst="rect">
            <a:avLst/>
          </a:prstGeom>
          <a:ln w="0">
            <a:noFill/>
          </a:ln>
        </p:spPr>
      </p:pic>
      <p:sp>
        <p:nvSpPr>
          <p:cNvPr id="589" name="Rectangle 6"/>
          <p:cNvSpPr/>
          <p:nvPr/>
        </p:nvSpPr>
        <p:spPr>
          <a:xfrm>
            <a:off x="1523880" y="213372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 empieza con un material sobre un suporte (sustrato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Rectangle 7"/>
          <p:cNvSpPr/>
          <p:nvPr/>
        </p:nvSpPr>
        <p:spPr>
          <a:xfrm>
            <a:off x="762120" y="4067280"/>
            <a:ext cx="6324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 añade un poco de material según cierto modelo (patrón) (litografía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Footer Placeholder 7"/>
          <p:cNvSpPr/>
          <p:nvPr/>
        </p:nvSpPr>
        <p:spPr>
          <a:xfrm>
            <a:off x="2286000" y="6381720"/>
            <a:ext cx="4800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pyright April 2009 The Pennsylvania State Univer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Rectangle 5"/>
          <p:cNvSpPr/>
          <p:nvPr/>
        </p:nvSpPr>
        <p:spPr>
          <a:xfrm>
            <a:off x="7531560" y="5318280"/>
            <a:ext cx="1459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 imagen es cortesí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 Bruce Hir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Rectangle 5"/>
          <p:cNvSpPr/>
          <p:nvPr/>
        </p:nvSpPr>
        <p:spPr>
          <a:xfrm>
            <a:off x="381240" y="3429000"/>
            <a:ext cx="1459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 imagen es cortesí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 Bruce Hir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-304920" y="351000"/>
            <a:ext cx="9144000" cy="58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2000" spc="-1" strike="noStrike">
                <a:solidFill>
                  <a:srgbClr val="333399"/>
                </a:solidFill>
                <a:latin typeface="Arial"/>
              </a:rPr>
              <a:t>Este módulo es parte de una serie diseñada para ser utilizada por profesores de instituciones de educación superior en talleres y cursos  para introducir la nanotecnología y sus aplicaciones. No hay ningún significado particular para el sistema de número de módul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Arial"/>
              </a:rPr>
              <a:t>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Esa serie fue auspiciada en parte po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The National Science Found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1600" spc="-1" strike="noStrike">
                <a:solidFill>
                  <a:srgbClr val="333399"/>
                </a:solidFill>
                <a:latin typeface="Arial"/>
              </a:rPr>
              <a:t>Grant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 # DUE 0532646 and DUE 080249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The Pennsylvania Department of Community and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Economic Developmen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Grant # C000029471 and C00003665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1400" spc="-1" strike="noStrike">
                <a:solidFill>
                  <a:srgbClr val="333399"/>
                </a:solidFill>
                <a:latin typeface="Arial"/>
              </a:rPr>
              <a:t>Cualquier comentario, resultados y conclusiones o recomendaciones expresadas en este material son los del autor y no reflejan necesariamente las opiniones de la National Science Foundation o de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 “Pennsylvania Department of Community and Economic Development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9" name="Picture 4" descr="dced-global2"/>
          <p:cNvPicPr/>
          <p:nvPr/>
        </p:nvPicPr>
        <p:blipFill>
          <a:blip r:embed="rId1"/>
          <a:stretch/>
        </p:blipFill>
        <p:spPr>
          <a:xfrm>
            <a:off x="380880" y="5486400"/>
            <a:ext cx="2514600" cy="1087560"/>
          </a:xfrm>
          <a:prstGeom prst="rect">
            <a:avLst/>
          </a:prstGeom>
          <a:ln w="0">
            <a:noFill/>
          </a:ln>
        </p:spPr>
      </p:pic>
      <p:sp>
        <p:nvSpPr>
          <p:cNvPr id="510" name="Footer Placeholder 4"/>
          <p:cNvSpPr/>
          <p:nvPr/>
        </p:nvSpPr>
        <p:spPr>
          <a:xfrm>
            <a:off x="2666880" y="6620040"/>
            <a:ext cx="42674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pyright April 2009 The Pennsylvania State Un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1" name="Picture 5" descr="NSF image.JPG"/>
          <p:cNvPicPr/>
          <p:nvPr/>
        </p:nvPicPr>
        <p:blipFill>
          <a:blip r:embed="rId2"/>
          <a:stretch/>
        </p:blipFill>
        <p:spPr>
          <a:xfrm>
            <a:off x="7315200" y="5029200"/>
            <a:ext cx="1581120" cy="15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80520" y="274320"/>
            <a:ext cx="8610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R" sz="4000" spc="-1" strike="noStrike">
                <a:solidFill>
                  <a:srgbClr val="000000"/>
                </a:solidFill>
                <a:latin typeface="Arial"/>
              </a:rPr>
              <a:t>Nanofabricación del tipo “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rriba Hacia Abajo</a:t>
            </a:r>
            <a:r>
              <a:rPr b="1" lang="es-PR" sz="4000" spc="-1" strike="noStrike">
                <a:solidFill>
                  <a:srgbClr val="000000"/>
                </a:solidFill>
                <a:latin typeface="Arial"/>
              </a:rPr>
              <a:t>” se parece a Esculpi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5" name="Picture 3" descr=""/>
          <p:cNvPicPr/>
          <p:nvPr/>
        </p:nvPicPr>
        <p:blipFill>
          <a:blip r:embed="rId1"/>
          <a:stretch/>
        </p:blipFill>
        <p:spPr>
          <a:xfrm>
            <a:off x="7696080" y="3886200"/>
            <a:ext cx="990720" cy="1371600"/>
          </a:xfrm>
          <a:prstGeom prst="rect">
            <a:avLst/>
          </a:prstGeom>
          <a:ln w="0">
            <a:noFill/>
          </a:ln>
        </p:spPr>
      </p:pic>
      <p:pic>
        <p:nvPicPr>
          <p:cNvPr id="596" name="Picture 4" descr="The image “http://www.hirstarts.com/sculpt/sculp10.jpg” cannot be displayed, because it contains errors."/>
          <p:cNvPicPr/>
          <p:nvPr/>
        </p:nvPicPr>
        <p:blipFill>
          <a:blip r:embed="rId2"/>
          <a:stretch/>
        </p:blipFill>
        <p:spPr>
          <a:xfrm>
            <a:off x="533520" y="1981080"/>
            <a:ext cx="952560" cy="1428840"/>
          </a:xfrm>
          <a:prstGeom prst="rect">
            <a:avLst/>
          </a:prstGeom>
          <a:ln w="0">
            <a:noFill/>
          </a:ln>
        </p:spPr>
      </p:pic>
      <p:sp>
        <p:nvSpPr>
          <p:cNvPr id="597" name="Rectangle 6"/>
          <p:cNvSpPr/>
          <p:nvPr/>
        </p:nvSpPr>
        <p:spPr>
          <a:xfrm>
            <a:off x="1676520" y="1752480"/>
            <a:ext cx="7467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 saca parte del material según un modelo (patrón) (no importa la orden con que se pone y quita el material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Rectangle 7"/>
          <p:cNvSpPr/>
          <p:nvPr/>
        </p:nvSpPr>
        <p:spPr>
          <a:xfrm>
            <a:off x="-76320" y="4219560"/>
            <a:ext cx="7467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 repite la operación de poner y quitar material hasta que se logra copiar el modelo o patr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Footer Placeholder 7"/>
          <p:cNvSpPr/>
          <p:nvPr/>
        </p:nvSpPr>
        <p:spPr>
          <a:xfrm>
            <a:off x="2286000" y="6381720"/>
            <a:ext cx="4800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pyright April 2009 The Pennsylvania State Univer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Rectangle 5"/>
          <p:cNvSpPr/>
          <p:nvPr/>
        </p:nvSpPr>
        <p:spPr>
          <a:xfrm>
            <a:off x="305280" y="3429000"/>
            <a:ext cx="1459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 imagen es cortesí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 Bruce Hir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Rectangle 5"/>
          <p:cNvSpPr/>
          <p:nvPr/>
        </p:nvSpPr>
        <p:spPr>
          <a:xfrm>
            <a:off x="7531560" y="5318280"/>
            <a:ext cx="1459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 imagen es cortesí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 Bruce Hir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Nanofabricación de tipo “Abajo Hacia Arriba” es como jugar con legos o construir con bloqu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Rectangle 4"/>
          <p:cNvSpPr/>
          <p:nvPr/>
        </p:nvSpPr>
        <p:spPr>
          <a:xfrm>
            <a:off x="1676520" y="2057400"/>
            <a:ext cx="6933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 pueden juntar los bloques según un patrón inherente determinado por la forma o se les puede juntar aleatoriamen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Rectangle 5"/>
          <p:cNvSpPr/>
          <p:nvPr/>
        </p:nvSpPr>
        <p:spPr>
          <a:xfrm>
            <a:off x="922320" y="4724280"/>
            <a:ext cx="769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os “legos” o bloques pueden ser átomos, moléculas o nanopartículas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5" name="Picture 6" descr="Load-bearing walls should be anchored with metal tie bars. "/>
          <p:cNvPicPr/>
          <p:nvPr/>
        </p:nvPicPr>
        <p:blipFill>
          <a:blip r:embed="rId1"/>
          <a:stretch/>
        </p:blipFill>
        <p:spPr>
          <a:xfrm>
            <a:off x="228600" y="2057400"/>
            <a:ext cx="1828800" cy="1371600"/>
          </a:xfrm>
          <a:prstGeom prst="rect">
            <a:avLst/>
          </a:prstGeom>
          <a:ln w="0">
            <a:noFill/>
          </a:ln>
        </p:spPr>
      </p:pic>
      <p:sp>
        <p:nvSpPr>
          <p:cNvPr id="606" name="Footer Placeholder 4"/>
          <p:cNvSpPr/>
          <p:nvPr/>
        </p:nvSpPr>
        <p:spPr>
          <a:xfrm>
            <a:off x="2362320" y="6620040"/>
            <a:ext cx="441936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opyright April 2009 The Pennsylvania State Un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Nanofabricación tipo “Arriba Hacia Abajo” Vs. “Abajo Hacia Arriba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380880" y="205704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R" sz="2000" spc="-1" strike="noStrike">
                <a:solidFill>
                  <a:srgbClr val="000000"/>
                </a:solidFill>
                <a:latin typeface="Arial"/>
              </a:rPr>
              <a:t>Nanofabricación del tipo “Arriba Hacia Abajo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PR" sz="2000" spc="-1" strike="noStrike">
                <a:solidFill>
                  <a:srgbClr val="000000"/>
                </a:solidFill>
                <a:latin typeface="Arial"/>
              </a:rPr>
              <a:t>En la nanofabricación del tipo “Arriba Hacia Abajo”, se crece o se deposita capas de materiales, combinando métodos físicos y químicos y se construye la nanoestructura deseada, como se hace una estatua a partir de un bloque de mármol. Nanotecnología de tipo “Arriba Hacia Abajo” se basa en métodos que se usan para hacer los circuitos microelectrónicos; o sea, estructuras cuidadosamente controladas, dónde pequeñas dimensiones  son logradas mediante deposición de capas de material y remoción del mismo en ciertas zonas dónde no se desea que esté. Estos pasos son guiados por la litografí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R" sz="2000" spc="-1" strike="noStrike">
                <a:solidFill>
                  <a:srgbClr val="000000"/>
                </a:solidFill>
                <a:latin typeface="Arial"/>
              </a:rPr>
              <a:t>Nanofabricación del tipo “Abajo Hacia Arriba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PR" sz="2000" spc="-1" strike="noStrike">
                <a:solidFill>
                  <a:srgbClr val="000000"/>
                </a:solidFill>
                <a:latin typeface="Arial"/>
              </a:rPr>
              <a:t>En el enfoque del tipo “Abajo Hacia Arriba”, se inicia con peque</a:t>
            </a:r>
            <a:r>
              <a:rPr b="0" lang="es-PR" sz="2000" spc="-1" strike="noStrike">
                <a:solidFill>
                  <a:srgbClr val="000000"/>
                </a:solidFill>
                <a:latin typeface="Arial"/>
                <a:ea typeface="Arial"/>
              </a:rPr>
              <a:t>ños componentes, por ejemplo, moléculas y nanopartículas individuales y las ensambla para lograr la estructura deseada. Frecuentemente el ensamblado es auto-guiado, o sea, los materiales se autoensamblan</a:t>
            </a:r>
            <a:r>
              <a:rPr b="0" lang="es-PR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Footer Placeholder 4"/>
          <p:cNvSpPr/>
          <p:nvPr/>
        </p:nvSpPr>
        <p:spPr>
          <a:xfrm>
            <a:off x="2362320" y="6620040"/>
            <a:ext cx="441936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opyright April 2009 The Pennsylvania State Un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s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materiales básico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en la nanofabricación del tipo “arriba hacia abajo” son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capa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o sea, películas) de materi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s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materiales básico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e la nanofabricación del tipo “abajo hacia arriba” son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átomos</a:t>
            </a: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, moléculas, partícula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en-US" sz="3200" spc="-1" strike="noStrike" u="sng">
                <a:solidFill>
                  <a:srgbClr val="0000cc"/>
                </a:solidFill>
                <a:uFillTx/>
                <a:latin typeface="Arial"/>
              </a:rPr>
              <a:t>capa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Footer Placeholder 4"/>
          <p:cNvSpPr/>
          <p:nvPr/>
        </p:nvSpPr>
        <p:spPr>
          <a:xfrm>
            <a:off x="2362320" y="6620040"/>
            <a:ext cx="441936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opyright April 2009 The Pennsylvania State Un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tenid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Rectangle 3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o que es nanofabricaci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ómo y qué se hace por nanofabricaci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ómo se orienta la nanofabricaci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na visión general de la nanofabricación de arriba hacia abajo y de abajo hacia arriba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ff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Nanofabricación de arriba hacia abaj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anofabricación de abajo hacia arrib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deas clav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Footer Placeholder 4"/>
          <p:cNvSpPr/>
          <p:nvPr/>
        </p:nvSpPr>
        <p:spPr>
          <a:xfrm>
            <a:off x="2362320" y="6620040"/>
            <a:ext cx="441936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opyright April 2009 The Pennsylvania State Un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Text Box 2"/>
          <p:cNvSpPr/>
          <p:nvPr/>
        </p:nvSpPr>
        <p:spPr>
          <a:xfrm>
            <a:off x="380880" y="1295280"/>
            <a:ext cx="6629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Text Box 3"/>
          <p:cNvSpPr/>
          <p:nvPr/>
        </p:nvSpPr>
        <p:spPr>
          <a:xfrm>
            <a:off x="457200" y="2286000"/>
            <a:ext cx="853452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Litografía</a:t>
            </a: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ransferencia de un patró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Crecimiento/Deposición</a:t>
            </a: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proceso Aditiv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Grabado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proceso Sustractiv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Modific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hay un</a:t>
            </a: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control por patrón exter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Híbri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Text Box 4"/>
          <p:cNvSpPr/>
          <p:nvPr/>
        </p:nvSpPr>
        <p:spPr>
          <a:xfrm>
            <a:off x="457200" y="119160"/>
            <a:ext cx="82296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Nanofabricación del tipo “Arriba Hacia Abajo”siempre usa una combinación d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Footer Placeholder 4"/>
          <p:cNvSpPr/>
          <p:nvPr/>
        </p:nvSpPr>
        <p:spPr>
          <a:xfrm>
            <a:off x="2362320" y="6620040"/>
            <a:ext cx="441936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opyright April 2009 The Pennsylvania State Un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-360" y="3805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l procedimiento de la nanofabricación del tipo             “Arriba Hacia Abajo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4920" y="1951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 establece cierta secuencia para los cuatro pasos (litografía, adición y sustracción, modificación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 puede brincar algunos pasos; se puede empezar en cualquier de los pas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rmalmente se empieza con un crecimiento o deposición de un materi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 litografía es el paso que comanda todos los demás. Ella controla dónde se quedan los materiales y dónde ellos son removid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Footer Placeholder 4"/>
          <p:cNvSpPr/>
          <p:nvPr/>
        </p:nvSpPr>
        <p:spPr>
          <a:xfrm>
            <a:off x="2362320" y="6620040"/>
            <a:ext cx="441936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opyright April 2009 The Pennsylvania State Un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Oval 2"/>
          <p:cNvSpPr/>
          <p:nvPr/>
        </p:nvSpPr>
        <p:spPr>
          <a:xfrm>
            <a:off x="1371600" y="762120"/>
            <a:ext cx="6553080" cy="5029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Rectangle 3"/>
          <p:cNvSpPr/>
          <p:nvPr/>
        </p:nvSpPr>
        <p:spPr>
          <a:xfrm>
            <a:off x="533520" y="2514600"/>
            <a:ext cx="190476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b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Rectangle 4"/>
          <p:cNvSpPr/>
          <p:nvPr/>
        </p:nvSpPr>
        <p:spPr>
          <a:xfrm>
            <a:off x="3505320" y="457200"/>
            <a:ext cx="182880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tograf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Rectangle 5"/>
          <p:cNvSpPr/>
          <p:nvPr/>
        </p:nvSpPr>
        <p:spPr>
          <a:xfrm>
            <a:off x="6781680" y="2665440"/>
            <a:ext cx="182880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osi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cimien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Rectangle 6"/>
          <p:cNvSpPr/>
          <p:nvPr/>
        </p:nvSpPr>
        <p:spPr>
          <a:xfrm>
            <a:off x="3429000" y="5181480"/>
            <a:ext cx="19810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ificació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l Mate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AutoShape 7"/>
          <p:cNvSpPr/>
          <p:nvPr/>
        </p:nvSpPr>
        <p:spPr>
          <a:xfrm rot="4563600">
            <a:off x="5409720" y="5486040"/>
            <a:ext cx="380880" cy="381240"/>
          </a:xfrm>
          <a:prstGeom prst="flowChartMerg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AutoShape 8"/>
          <p:cNvSpPr/>
          <p:nvPr/>
        </p:nvSpPr>
        <p:spPr>
          <a:xfrm rot="10078800">
            <a:off x="1219320" y="3580560"/>
            <a:ext cx="380880" cy="381240"/>
          </a:xfrm>
          <a:prstGeom prst="flowChartMerg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AutoShape 9"/>
          <p:cNvSpPr/>
          <p:nvPr/>
        </p:nvSpPr>
        <p:spPr>
          <a:xfrm rot="14991000">
            <a:off x="3124080" y="761760"/>
            <a:ext cx="380880" cy="381240"/>
          </a:xfrm>
          <a:prstGeom prst="flowChartMerg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AutoShape 10"/>
          <p:cNvSpPr/>
          <p:nvPr/>
        </p:nvSpPr>
        <p:spPr>
          <a:xfrm rot="19674600">
            <a:off x="7543440" y="2285640"/>
            <a:ext cx="380880" cy="387360"/>
          </a:xfrm>
          <a:prstGeom prst="flowChartMerg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Rectangle 11"/>
          <p:cNvSpPr/>
          <p:nvPr/>
        </p:nvSpPr>
        <p:spPr>
          <a:xfrm>
            <a:off x="3295800" y="2665440"/>
            <a:ext cx="2571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La Metodología de la Fabricación del tipo “Arriba Hacia Abajo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362320" y="6620040"/>
            <a:ext cx="441936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opyright April 2009 The Pennsylvania State Un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TextBox 12"/>
          <p:cNvSpPr/>
          <p:nvPr/>
        </p:nvSpPr>
        <p:spPr>
          <a:xfrm>
            <a:off x="3886200" y="6324480"/>
            <a:ext cx="144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Cortesía de CNE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/>
          </p:nvPr>
        </p:nvSpPr>
        <p:spPr>
          <a:xfrm>
            <a:off x="45720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eamos un ejemplo de cómo se usa la nanofabricación de tipo “arriba hacia abajo” para hacer estructuras a nanoescala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Footer Placeholder 4"/>
          <p:cNvSpPr/>
          <p:nvPr/>
        </p:nvSpPr>
        <p:spPr>
          <a:xfrm>
            <a:off x="2362320" y="6620040"/>
            <a:ext cx="441936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opyright April 2009 The Pennsylvania State Un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Footer Placeholder 4"/>
          <p:cNvSpPr/>
          <p:nvPr/>
        </p:nvSpPr>
        <p:spPr>
          <a:xfrm>
            <a:off x="1523880" y="6400800"/>
            <a:ext cx="6019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pyright April 2009 The Pennsylvania State Univer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Text Box 2"/>
          <p:cNvSpPr/>
          <p:nvPr/>
        </p:nvSpPr>
        <p:spPr>
          <a:xfrm>
            <a:off x="160200" y="1614600"/>
            <a:ext cx="894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cimiento de la Película por Reacción Química del Sustrato con Especies Prese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AutoShape 3"/>
          <p:cNvSpPr/>
          <p:nvPr/>
        </p:nvSpPr>
        <p:spPr>
          <a:xfrm rot="10800000">
            <a:off x="1828800" y="-609480"/>
            <a:ext cx="5410080" cy="411480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Rectangle 4"/>
          <p:cNvSpPr/>
          <p:nvPr/>
        </p:nvSpPr>
        <p:spPr>
          <a:xfrm>
            <a:off x="2286000" y="5410080"/>
            <a:ext cx="4495680" cy="2286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líc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-228600" y="-360"/>
            <a:ext cx="9601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jemplo de una Secuencia de Nanofabricación del tipo “Arriba Hacia Abajo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Rectangle 6"/>
          <p:cNvSpPr/>
          <p:nvPr/>
        </p:nvSpPr>
        <p:spPr>
          <a:xfrm>
            <a:off x="2286000" y="5638680"/>
            <a:ext cx="4495680" cy="4572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Rectangle 7"/>
          <p:cNvSpPr/>
          <p:nvPr/>
        </p:nvSpPr>
        <p:spPr>
          <a:xfrm>
            <a:off x="2286000" y="5181480"/>
            <a:ext cx="4495680" cy="2286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tores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3" name="Group 8"/>
          <p:cNvGrpSpPr/>
          <p:nvPr/>
        </p:nvGrpSpPr>
        <p:grpSpPr>
          <a:xfrm>
            <a:off x="914400" y="3809880"/>
            <a:ext cx="7315200" cy="381240"/>
            <a:chOff x="914400" y="3809880"/>
            <a:chExt cx="7315200" cy="381240"/>
          </a:xfrm>
        </p:grpSpPr>
        <p:sp>
          <p:nvSpPr>
            <p:cNvPr id="644" name="Rectangle 9"/>
            <p:cNvSpPr/>
            <p:nvPr/>
          </p:nvSpPr>
          <p:spPr>
            <a:xfrm>
              <a:off x="914400" y="3809880"/>
              <a:ext cx="7315200" cy="22860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atr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Rectangle 10"/>
            <p:cNvSpPr/>
            <p:nvPr/>
          </p:nvSpPr>
          <p:spPr>
            <a:xfrm>
              <a:off x="914400" y="4038480"/>
              <a:ext cx="2362320" cy="1526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Rectangle 11"/>
            <p:cNvSpPr/>
            <p:nvPr/>
          </p:nvSpPr>
          <p:spPr>
            <a:xfrm>
              <a:off x="3581280" y="4038480"/>
              <a:ext cx="1981440" cy="1526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Rectangle 12"/>
            <p:cNvSpPr/>
            <p:nvPr/>
          </p:nvSpPr>
          <p:spPr>
            <a:xfrm>
              <a:off x="5867280" y="4038480"/>
              <a:ext cx="2362320" cy="1526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8" name="Group 13"/>
          <p:cNvGrpSpPr/>
          <p:nvPr/>
        </p:nvGrpSpPr>
        <p:grpSpPr>
          <a:xfrm>
            <a:off x="2057400" y="1905120"/>
            <a:ext cx="5257800" cy="1828800"/>
            <a:chOff x="2057400" y="1905120"/>
            <a:chExt cx="5257800" cy="1828800"/>
          </a:xfrm>
        </p:grpSpPr>
        <p:sp>
          <p:nvSpPr>
            <p:cNvPr id="649" name="Line 14"/>
            <p:cNvSpPr/>
            <p:nvPr/>
          </p:nvSpPr>
          <p:spPr>
            <a:xfrm>
              <a:off x="2057400" y="1905120"/>
              <a:ext cx="0" cy="1828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Line 15"/>
            <p:cNvSpPr/>
            <p:nvPr/>
          </p:nvSpPr>
          <p:spPr>
            <a:xfrm>
              <a:off x="2286000" y="1905120"/>
              <a:ext cx="0" cy="1828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Line 16"/>
            <p:cNvSpPr/>
            <p:nvPr/>
          </p:nvSpPr>
          <p:spPr>
            <a:xfrm>
              <a:off x="2514600" y="1905120"/>
              <a:ext cx="0" cy="1828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Line 17"/>
            <p:cNvSpPr/>
            <p:nvPr/>
          </p:nvSpPr>
          <p:spPr>
            <a:xfrm>
              <a:off x="2743200" y="1905120"/>
              <a:ext cx="0" cy="1828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Line 18"/>
            <p:cNvSpPr/>
            <p:nvPr/>
          </p:nvSpPr>
          <p:spPr>
            <a:xfrm>
              <a:off x="2971800" y="1905120"/>
              <a:ext cx="0" cy="1828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Line 19"/>
            <p:cNvSpPr/>
            <p:nvPr/>
          </p:nvSpPr>
          <p:spPr>
            <a:xfrm>
              <a:off x="3200400" y="1905120"/>
              <a:ext cx="0" cy="1828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Line 20"/>
            <p:cNvSpPr/>
            <p:nvPr/>
          </p:nvSpPr>
          <p:spPr>
            <a:xfrm>
              <a:off x="3429000" y="1905120"/>
              <a:ext cx="0" cy="1828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Line 21"/>
            <p:cNvSpPr/>
            <p:nvPr/>
          </p:nvSpPr>
          <p:spPr>
            <a:xfrm>
              <a:off x="3657600" y="1905120"/>
              <a:ext cx="0" cy="1828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Line 22"/>
            <p:cNvSpPr/>
            <p:nvPr/>
          </p:nvSpPr>
          <p:spPr>
            <a:xfrm>
              <a:off x="3886200" y="1905120"/>
              <a:ext cx="0" cy="1828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Line 23"/>
            <p:cNvSpPr/>
            <p:nvPr/>
          </p:nvSpPr>
          <p:spPr>
            <a:xfrm>
              <a:off x="4114800" y="1905120"/>
              <a:ext cx="0" cy="1828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Line 24"/>
            <p:cNvSpPr/>
            <p:nvPr/>
          </p:nvSpPr>
          <p:spPr>
            <a:xfrm>
              <a:off x="4343400" y="1905120"/>
              <a:ext cx="0" cy="1828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Line 25"/>
            <p:cNvSpPr/>
            <p:nvPr/>
          </p:nvSpPr>
          <p:spPr>
            <a:xfrm>
              <a:off x="4572000" y="1905120"/>
              <a:ext cx="0" cy="1828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Line 26"/>
            <p:cNvSpPr/>
            <p:nvPr/>
          </p:nvSpPr>
          <p:spPr>
            <a:xfrm>
              <a:off x="4800600" y="1905120"/>
              <a:ext cx="0" cy="1828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Line 27"/>
            <p:cNvSpPr/>
            <p:nvPr/>
          </p:nvSpPr>
          <p:spPr>
            <a:xfrm>
              <a:off x="5029200" y="1905120"/>
              <a:ext cx="0" cy="1828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Line 28"/>
            <p:cNvSpPr/>
            <p:nvPr/>
          </p:nvSpPr>
          <p:spPr>
            <a:xfrm>
              <a:off x="5257800" y="1905120"/>
              <a:ext cx="0" cy="1828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Line 29"/>
            <p:cNvSpPr/>
            <p:nvPr/>
          </p:nvSpPr>
          <p:spPr>
            <a:xfrm>
              <a:off x="5486400" y="1905120"/>
              <a:ext cx="0" cy="1828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Line 30"/>
            <p:cNvSpPr/>
            <p:nvPr/>
          </p:nvSpPr>
          <p:spPr>
            <a:xfrm>
              <a:off x="5715000" y="1905120"/>
              <a:ext cx="0" cy="1828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Line 31"/>
            <p:cNvSpPr/>
            <p:nvPr/>
          </p:nvSpPr>
          <p:spPr>
            <a:xfrm>
              <a:off x="5943600" y="1905120"/>
              <a:ext cx="0" cy="1828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Line 32"/>
            <p:cNvSpPr/>
            <p:nvPr/>
          </p:nvSpPr>
          <p:spPr>
            <a:xfrm>
              <a:off x="6172200" y="1905120"/>
              <a:ext cx="0" cy="1828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Line 33"/>
            <p:cNvSpPr/>
            <p:nvPr/>
          </p:nvSpPr>
          <p:spPr>
            <a:xfrm>
              <a:off x="6400800" y="1905120"/>
              <a:ext cx="0" cy="1828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Line 34"/>
            <p:cNvSpPr/>
            <p:nvPr/>
          </p:nvSpPr>
          <p:spPr>
            <a:xfrm>
              <a:off x="6629400" y="1905120"/>
              <a:ext cx="0" cy="1828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Line 35"/>
            <p:cNvSpPr/>
            <p:nvPr/>
          </p:nvSpPr>
          <p:spPr>
            <a:xfrm>
              <a:off x="6858000" y="1905120"/>
              <a:ext cx="0" cy="1828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Line 36"/>
            <p:cNvSpPr/>
            <p:nvPr/>
          </p:nvSpPr>
          <p:spPr>
            <a:xfrm>
              <a:off x="7086600" y="1905120"/>
              <a:ext cx="0" cy="1828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Line 37"/>
            <p:cNvSpPr/>
            <p:nvPr/>
          </p:nvSpPr>
          <p:spPr>
            <a:xfrm>
              <a:off x="7315200" y="1905120"/>
              <a:ext cx="0" cy="1828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3" name="Rectangle 38"/>
          <p:cNvSpPr/>
          <p:nvPr/>
        </p:nvSpPr>
        <p:spPr>
          <a:xfrm>
            <a:off x="3276720" y="5181480"/>
            <a:ext cx="304560" cy="228600"/>
          </a:xfrm>
          <a:prstGeom prst="rect">
            <a:avLst/>
          </a:prstGeom>
          <a:solidFill>
            <a:srgbClr val="a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Rectangle 39"/>
          <p:cNvSpPr/>
          <p:nvPr/>
        </p:nvSpPr>
        <p:spPr>
          <a:xfrm>
            <a:off x="5562720" y="5181480"/>
            <a:ext cx="304560" cy="228600"/>
          </a:xfrm>
          <a:prstGeom prst="rect">
            <a:avLst/>
          </a:prstGeom>
          <a:solidFill>
            <a:srgbClr val="a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Line 40"/>
          <p:cNvSpPr/>
          <p:nvPr/>
        </p:nvSpPr>
        <p:spPr>
          <a:xfrm>
            <a:off x="3429000" y="3505320"/>
            <a:ext cx="0" cy="18288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Line 41"/>
          <p:cNvSpPr/>
          <p:nvPr/>
        </p:nvSpPr>
        <p:spPr>
          <a:xfrm>
            <a:off x="5715000" y="3505320"/>
            <a:ext cx="0" cy="18288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Rectangle 42"/>
          <p:cNvSpPr/>
          <p:nvPr/>
        </p:nvSpPr>
        <p:spPr>
          <a:xfrm>
            <a:off x="3276720" y="5105520"/>
            <a:ext cx="30456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Rectangle 43"/>
          <p:cNvSpPr/>
          <p:nvPr/>
        </p:nvSpPr>
        <p:spPr>
          <a:xfrm>
            <a:off x="5562720" y="5105520"/>
            <a:ext cx="30456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AutoShape 44"/>
          <p:cNvSpPr/>
          <p:nvPr/>
        </p:nvSpPr>
        <p:spPr>
          <a:xfrm>
            <a:off x="-3240" y="4343400"/>
            <a:ext cx="9144000" cy="2971800"/>
          </a:xfrm>
          <a:custGeom>
            <a:avLst/>
            <a:gdLst>
              <a:gd name="textAreaLeft" fmla="*/ 0 w 9144000"/>
              <a:gd name="textAreaRight" fmla="*/ 9144360 w 9144000"/>
              <a:gd name="textAreaTop" fmla="*/ 471240 h 2971800"/>
              <a:gd name="textAreaBottom" fmla="*/ 2500560 h 2971800"/>
            </a:gdLst>
            <a:ahLst/>
            <a:rect l="textAreaLeft" t="textAreaTop" r="textAreaRight" b="textAreaBottom"/>
            <a:pathLst>
              <a:path w="21600" h="21600">
                <a:moveTo>
                  <a:pt x="0" y="1713"/>
                </a:moveTo>
                <a:cubicBezTo>
                  <a:pt x="7200" y="-4355"/>
                  <a:pt x="14400" y="7781"/>
                  <a:pt x="21600" y="1713"/>
                </a:cubicBezTo>
                <a:lnTo>
                  <a:pt x="21600" y="19887"/>
                </a:lnTo>
                <a:cubicBezTo>
                  <a:pt x="14400" y="25955"/>
                  <a:pt x="7200" y="13819"/>
                  <a:pt x="0" y="19887"/>
                </a:cubicBezTo>
                <a:close/>
              </a:path>
            </a:pathLst>
          </a:custGeom>
          <a:solidFill>
            <a:srgbClr val="0000ff">
              <a:alpha val="4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Rectangle 45"/>
          <p:cNvSpPr/>
          <p:nvPr/>
        </p:nvSpPr>
        <p:spPr>
          <a:xfrm>
            <a:off x="3276720" y="5334120"/>
            <a:ext cx="30456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Rectangle 46"/>
          <p:cNvSpPr/>
          <p:nvPr/>
        </p:nvSpPr>
        <p:spPr>
          <a:xfrm>
            <a:off x="5562720" y="5334120"/>
            <a:ext cx="30456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Text Box 47"/>
          <p:cNvSpPr/>
          <p:nvPr/>
        </p:nvSpPr>
        <p:spPr>
          <a:xfrm>
            <a:off x="2156040" y="4572000"/>
            <a:ext cx="511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RABADO POR PLAS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AutoShape 48"/>
          <p:cNvSpPr/>
          <p:nvPr/>
        </p:nvSpPr>
        <p:spPr>
          <a:xfrm>
            <a:off x="-15840" y="4343400"/>
            <a:ext cx="9144000" cy="2971800"/>
          </a:xfrm>
          <a:custGeom>
            <a:avLst/>
            <a:gdLst>
              <a:gd name="textAreaLeft" fmla="*/ 0 w 9144000"/>
              <a:gd name="textAreaRight" fmla="*/ 9144360 w 9144000"/>
              <a:gd name="textAreaTop" fmla="*/ 471240 h 2971800"/>
              <a:gd name="textAreaBottom" fmla="*/ 2500560 h 2971800"/>
            </a:gdLst>
            <a:ahLst/>
            <a:rect l="textAreaLeft" t="textAreaTop" r="textAreaRight" b="textAreaBottom"/>
            <a:pathLst>
              <a:path w="21600" h="21600">
                <a:moveTo>
                  <a:pt x="0" y="1713"/>
                </a:moveTo>
                <a:cubicBezTo>
                  <a:pt x="7200" y="-4355"/>
                  <a:pt x="14400" y="7781"/>
                  <a:pt x="21600" y="1713"/>
                </a:cubicBezTo>
                <a:lnTo>
                  <a:pt x="21600" y="19887"/>
                </a:lnTo>
                <a:cubicBezTo>
                  <a:pt x="14400" y="25955"/>
                  <a:pt x="7200" y="13819"/>
                  <a:pt x="0" y="19887"/>
                </a:cubicBezTo>
                <a:close/>
              </a:path>
            </a:pathLst>
          </a:custGeom>
          <a:solidFill>
            <a:srgbClr val="0000ff">
              <a:alpha val="4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4" name="Group 49"/>
          <p:cNvGrpSpPr/>
          <p:nvPr/>
        </p:nvGrpSpPr>
        <p:grpSpPr>
          <a:xfrm>
            <a:off x="3276720" y="5410080"/>
            <a:ext cx="2590560" cy="228600"/>
            <a:chOff x="3276720" y="5410080"/>
            <a:chExt cx="2590560" cy="228600"/>
          </a:xfrm>
        </p:grpSpPr>
        <p:sp>
          <p:nvSpPr>
            <p:cNvPr id="685" name="Line 50"/>
            <p:cNvSpPr/>
            <p:nvPr/>
          </p:nvSpPr>
          <p:spPr>
            <a:xfrm>
              <a:off x="3276720" y="5410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Line 51"/>
            <p:cNvSpPr/>
            <p:nvPr/>
          </p:nvSpPr>
          <p:spPr>
            <a:xfrm>
              <a:off x="3581280" y="5410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Line 52"/>
            <p:cNvSpPr/>
            <p:nvPr/>
          </p:nvSpPr>
          <p:spPr>
            <a:xfrm>
              <a:off x="5562720" y="5410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Line 53"/>
            <p:cNvSpPr/>
            <p:nvPr/>
          </p:nvSpPr>
          <p:spPr>
            <a:xfrm>
              <a:off x="5867280" y="5410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9" name="AutoShape 54"/>
          <p:cNvSpPr/>
          <p:nvPr/>
        </p:nvSpPr>
        <p:spPr>
          <a:xfrm>
            <a:off x="1447920" y="3048120"/>
            <a:ext cx="761760" cy="838080"/>
          </a:xfrm>
          <a:prstGeom prst="irregularSeal1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AutoShape 55"/>
          <p:cNvSpPr/>
          <p:nvPr/>
        </p:nvSpPr>
        <p:spPr>
          <a:xfrm>
            <a:off x="4343400" y="2133720"/>
            <a:ext cx="838080" cy="761760"/>
          </a:xfrm>
          <a:prstGeom prst="irregularSeal1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AutoShape 56"/>
          <p:cNvSpPr/>
          <p:nvPr/>
        </p:nvSpPr>
        <p:spPr>
          <a:xfrm>
            <a:off x="5867280" y="3886200"/>
            <a:ext cx="838440" cy="685800"/>
          </a:xfrm>
          <a:prstGeom prst="irregularSeal1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Text Box 57"/>
          <p:cNvSpPr/>
          <p:nvPr/>
        </p:nvSpPr>
        <p:spPr>
          <a:xfrm>
            <a:off x="3506040" y="1182600"/>
            <a:ext cx="20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TOGRAF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Text Box 58"/>
          <p:cNvSpPr/>
          <p:nvPr/>
        </p:nvSpPr>
        <p:spPr>
          <a:xfrm>
            <a:off x="3645000" y="1181160"/>
            <a:ext cx="175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AB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Oval 59"/>
          <p:cNvSpPr/>
          <p:nvPr/>
        </p:nvSpPr>
        <p:spPr>
          <a:xfrm>
            <a:off x="2286000" y="2057400"/>
            <a:ext cx="1066680" cy="380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ím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Oval 60"/>
          <p:cNvSpPr/>
          <p:nvPr/>
        </p:nvSpPr>
        <p:spPr>
          <a:xfrm>
            <a:off x="3657600" y="3200400"/>
            <a:ext cx="1066680" cy="380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ím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Oval 61"/>
          <p:cNvSpPr/>
          <p:nvPr/>
        </p:nvSpPr>
        <p:spPr>
          <a:xfrm>
            <a:off x="6248520" y="2133720"/>
            <a:ext cx="1066680" cy="380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ím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Text Box 62"/>
          <p:cNvSpPr/>
          <p:nvPr/>
        </p:nvSpPr>
        <p:spPr>
          <a:xfrm>
            <a:off x="2044440" y="1611360"/>
            <a:ext cx="539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posición de la Fotoresina en el Sistema Girator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Text Box 63"/>
          <p:cNvSpPr/>
          <p:nvPr/>
        </p:nvSpPr>
        <p:spPr>
          <a:xfrm>
            <a:off x="3357000" y="1590840"/>
            <a:ext cx="233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neación del Patr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Text Box 64"/>
          <p:cNvSpPr/>
          <p:nvPr/>
        </p:nvSpPr>
        <p:spPr>
          <a:xfrm>
            <a:off x="3432600" y="1614600"/>
            <a:ext cx="21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osición a la Lu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Text Box 65"/>
          <p:cNvSpPr/>
          <p:nvPr/>
        </p:nvSpPr>
        <p:spPr>
          <a:xfrm>
            <a:off x="1335960" y="1614600"/>
            <a:ext cx="66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s Enlaces Químicos son Modificados en las Áreas Expuest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Text Box 66"/>
          <p:cNvSpPr/>
          <p:nvPr/>
        </p:nvSpPr>
        <p:spPr>
          <a:xfrm>
            <a:off x="1851840" y="1611360"/>
            <a:ext cx="528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olución de la Fotoresina Expuesta al Revela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Text Box 67"/>
          <p:cNvSpPr/>
          <p:nvPr/>
        </p:nvSpPr>
        <p:spPr>
          <a:xfrm>
            <a:off x="1513440" y="1611360"/>
            <a:ext cx="630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moción de la Fotoresina (Grabado/Implantación de Ion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Text Box 68"/>
          <p:cNvSpPr/>
          <p:nvPr/>
        </p:nvSpPr>
        <p:spPr>
          <a:xfrm>
            <a:off x="3124080" y="6110280"/>
            <a:ext cx="28958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Potencial Negativ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Text Box 69"/>
          <p:cNvSpPr/>
          <p:nvPr/>
        </p:nvSpPr>
        <p:spPr>
          <a:xfrm>
            <a:off x="1225800" y="1224000"/>
            <a:ext cx="652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ferencia de Patrón y Modificación del Sustrato Finaliz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WordArt 70"/>
          <p:cNvSpPr txBox="1"/>
          <p:nvPr/>
        </p:nvSpPr>
        <p:spPr>
          <a:xfrm>
            <a:off x="3672000" y="3809880"/>
            <a:ext cx="1585800" cy="81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CALOR</a:t>
            </a:r>
            <a:endParaRPr b="0" lang="en-US" sz="17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06" name="Rectangle 71"/>
          <p:cNvSpPr/>
          <p:nvPr/>
        </p:nvSpPr>
        <p:spPr>
          <a:xfrm>
            <a:off x="2286000" y="5638680"/>
            <a:ext cx="4495680" cy="4572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str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Text Box 72"/>
          <p:cNvSpPr/>
          <p:nvPr/>
        </p:nvSpPr>
        <p:spPr>
          <a:xfrm>
            <a:off x="844920" y="1195560"/>
            <a:ext cx="723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ECIMIENTO O DEPOSICIÓN DE LA PELÍCU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Oval 73"/>
          <p:cNvSpPr/>
          <p:nvPr/>
        </p:nvSpPr>
        <p:spPr>
          <a:xfrm>
            <a:off x="-1828800" y="3200400"/>
            <a:ext cx="1752480" cy="380880"/>
          </a:xfrm>
          <a:prstGeom prst="ellipse">
            <a:avLst/>
          </a:prstGeom>
          <a:solidFill>
            <a:srgbClr val="bbe0e3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xíge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9" name="Group 74"/>
          <p:cNvGrpSpPr/>
          <p:nvPr/>
        </p:nvGrpSpPr>
        <p:grpSpPr>
          <a:xfrm>
            <a:off x="0" y="1905120"/>
            <a:ext cx="8763120" cy="4419360"/>
            <a:chOff x="0" y="1905120"/>
            <a:chExt cx="8763120" cy="4419360"/>
          </a:xfrm>
        </p:grpSpPr>
        <p:sp>
          <p:nvSpPr>
            <p:cNvPr id="710" name="Line 75"/>
            <p:cNvSpPr/>
            <p:nvPr/>
          </p:nvSpPr>
          <p:spPr>
            <a:xfrm>
              <a:off x="380880" y="1905120"/>
              <a:ext cx="0" cy="121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Line 76"/>
            <p:cNvSpPr/>
            <p:nvPr/>
          </p:nvSpPr>
          <p:spPr>
            <a:xfrm>
              <a:off x="380880" y="1905120"/>
              <a:ext cx="8382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Line 77"/>
            <p:cNvSpPr/>
            <p:nvPr/>
          </p:nvSpPr>
          <p:spPr>
            <a:xfrm>
              <a:off x="380880" y="3657600"/>
              <a:ext cx="0" cy="266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Line 78"/>
            <p:cNvSpPr/>
            <p:nvPr/>
          </p:nvSpPr>
          <p:spPr>
            <a:xfrm>
              <a:off x="380880" y="6324480"/>
              <a:ext cx="8382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Line 79"/>
            <p:cNvSpPr/>
            <p:nvPr/>
          </p:nvSpPr>
          <p:spPr>
            <a:xfrm>
              <a:off x="8763120" y="1905120"/>
              <a:ext cx="0" cy="441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Line 80"/>
            <p:cNvSpPr/>
            <p:nvPr/>
          </p:nvSpPr>
          <p:spPr>
            <a:xfrm flipH="1">
              <a:off x="0" y="31240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Line 81"/>
            <p:cNvSpPr/>
            <p:nvPr/>
          </p:nvSpPr>
          <p:spPr>
            <a:xfrm flipH="1">
              <a:off x="0" y="36576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7" name="Text Box 82"/>
          <p:cNvSpPr/>
          <p:nvPr/>
        </p:nvSpPr>
        <p:spPr>
          <a:xfrm>
            <a:off x="1865880" y="1181160"/>
            <a:ext cx="535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IFICACIÓN DE LA SUPERFIC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Oval 83"/>
          <p:cNvSpPr/>
          <p:nvPr/>
        </p:nvSpPr>
        <p:spPr>
          <a:xfrm>
            <a:off x="3276720" y="5638680"/>
            <a:ext cx="30456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Oval 84"/>
          <p:cNvSpPr/>
          <p:nvPr/>
        </p:nvSpPr>
        <p:spPr>
          <a:xfrm>
            <a:off x="3733920" y="4952880"/>
            <a:ext cx="30456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Oval 85"/>
          <p:cNvSpPr/>
          <p:nvPr/>
        </p:nvSpPr>
        <p:spPr>
          <a:xfrm>
            <a:off x="4343400" y="4952880"/>
            <a:ext cx="30492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Oval 86"/>
          <p:cNvSpPr/>
          <p:nvPr/>
        </p:nvSpPr>
        <p:spPr>
          <a:xfrm>
            <a:off x="5029200" y="4952880"/>
            <a:ext cx="30492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Oval 87"/>
          <p:cNvSpPr/>
          <p:nvPr/>
        </p:nvSpPr>
        <p:spPr>
          <a:xfrm>
            <a:off x="5562720" y="5638680"/>
            <a:ext cx="30456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Oval 88"/>
          <p:cNvSpPr/>
          <p:nvPr/>
        </p:nvSpPr>
        <p:spPr>
          <a:xfrm>
            <a:off x="6172200" y="4952880"/>
            <a:ext cx="30492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Oval 89"/>
          <p:cNvSpPr/>
          <p:nvPr/>
        </p:nvSpPr>
        <p:spPr>
          <a:xfrm>
            <a:off x="2666880" y="4952880"/>
            <a:ext cx="30492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Text Box 90"/>
          <p:cNvSpPr/>
          <p:nvPr/>
        </p:nvSpPr>
        <p:spPr>
          <a:xfrm>
            <a:off x="3312360" y="1590840"/>
            <a:ext cx="239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antación de 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Text Box 91"/>
          <p:cNvSpPr/>
          <p:nvPr/>
        </p:nvSpPr>
        <p:spPr>
          <a:xfrm>
            <a:off x="3543480" y="160020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cido Term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WordArt 92"/>
          <p:cNvSpPr txBox="1"/>
          <p:nvPr/>
        </p:nvSpPr>
        <p:spPr>
          <a:xfrm>
            <a:off x="3733920" y="3809880"/>
            <a:ext cx="1585800" cy="81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CALOR</a:t>
            </a:r>
            <a:endParaRPr b="0" lang="en-US" sz="17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28" name="Oval 93"/>
          <p:cNvSpPr/>
          <p:nvPr/>
        </p:nvSpPr>
        <p:spPr>
          <a:xfrm>
            <a:off x="3276720" y="5638680"/>
            <a:ext cx="30456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Oval 94"/>
          <p:cNvSpPr/>
          <p:nvPr/>
        </p:nvSpPr>
        <p:spPr>
          <a:xfrm>
            <a:off x="5562720" y="5638680"/>
            <a:ext cx="30456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Rectangle 95"/>
          <p:cNvSpPr/>
          <p:nvPr/>
        </p:nvSpPr>
        <p:spPr>
          <a:xfrm>
            <a:off x="5562720" y="5638680"/>
            <a:ext cx="30456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Rectangle 96"/>
          <p:cNvSpPr/>
          <p:nvPr/>
        </p:nvSpPr>
        <p:spPr>
          <a:xfrm>
            <a:off x="3276720" y="5638680"/>
            <a:ext cx="30456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726 2.22222E-006 C 0.08976 0.00162 0.1415 0.00555 0.20226 0.00833 C 0.2592 0.00741 0.31615 0.00833 0.37309 0.00555 C 0.3783 0.00532 0.38247 -0.00162 0.38768 -0.00278 C 0.41268 -0.00834 0.4375 -0.0125 0.46268 -0.01667 C 0.47587 -0.01574 0.48907 -0.01597 0.50226 -0.01389 C 0.5066 -0.0132 0.51042 -0.00949 0.51476 -0.00834 C 0.53125 -0.00394 0.54497 0.00694 0.56059 0.01389 C 0.58542 0.00278 0.58733 0.03842 0.60018 0.05555 C 0.60539 0.07639 0.59827 0.05069 0.60643 0.07222 C 0.60938 0.08009 0.60973 0.08935 0.61268 0.09722 C 0.61528 0.1044 0.6198 0.10995 0.62309 0.11666 C 0.62934 0.14953 0.6198 0.09745 0.62726 0.14722 C 0.62882 0.15717 0.63056 0.15625 0.63351 0.16666 C 0.63455 0.17014 0.63403 0.17453 0.63559 0.17778 C 0.64271 0.19143 0.65348 0.20046 0.66268 0.21111 C 0.66927 0.21875 0.67535 0.22847 0.68351 0.23333 C 0.69514 0.24028 0.69948 0.23958 0.71268 0.24166 C 0.75087 0.23611 0.77639 0.23657 0.80018 0.19444 C 0.80851 0.16111 0.8125 0.12662 0.79809 0.09444 C 0.79514 0.0787 0.78855 0.07384 0.78143 0.06111 C 0.77743 0.04514 0.78264 0.05926 0.77101 0.04722 C 0.76094 0.0368 0.75434 0.025 0.74184 0.01944 C 0.73021 0.00764 0.7165 0.00185 0.70226 -0.00278 C 0.6698 0.00116 0.63438 0.00486 0.60434 0.025 C 0.59236 0.0331 0.58125 0.04352 0.56893 0.05 C 0.56684 0.0537 0.56493 0.05764 0.56268 0.06111 C 0.55868 0.0669 0.55018 0.07778 0.55018 0.07801 C 0.54705 0.09004 0.54202 0.09143 0.53559 0.1 C 0.52778 0.11041 0.53073 0.11041 0.52518 0.12222 C 0.52032 0.13264 0.51355 0.14004 0.50851 0.15 C 0.50782 0.1537 0.50834 0.15833 0.50643 0.16111 C 0.50313 0.1662 0.49393 0.17222 0.49393 0.17245 C 0.49115 0.18356 0.48785 0.18796 0.47934 0.19166 C 0.47101 0.20995 0.46823 0.21528 0.45226 0.21944 C 0.44427 0.22662 0.43611 0.22662 0.42726 0.23055 C 0.41198 0.2287 0.39653 0.22893 0.38143 0.225 C 0.37535 0.22338 0.36476 0.21389 0.36476 0.21412 C 0.36042 0.19629 0.3625 0.20926 0.36684 0.17778 C 0.36754 0.17222 0.36754 0.16643 0.36893 0.16111 C 0.37396 0.14282 0.37344 0.15116 0.38143 0.14166 C 0.39236 0.1287 0.40226 0.11389 0.41268 0.1 C 0.41493 0.09699 0.41841 0.09653 0.42101 0.09444 C 0.43351 0.08449 0.43143 0.08611 0.43976 0.075 C 0.46545 0.07685 0.49115 0.07801 0.51684 0.08055 C 0.52605 0.08148 0.53056 0.0919 0.53559 0.1 C 0.55348 0.1287 0.58212 0.15116 0.60209 0.17778 C 0.61407 0.19375 0.5882 0.19352 0.60209 0.20833 C 0.63264 0.24097 0.57934 0.20301 0.60834 0.23055 C 0.61042 0.23241 0.60417 0.25532 0.60417 0.25555 E">
                                      <p:cBhvr>
                                        <p:cTn id="29" dur="3000" fill="hold"/>
                                        <p:tgtEl>
                                          <p:spTgt spid="7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30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30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30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1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4" dur="5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7" dur="5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0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3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3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0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9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7" dur="5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2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5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8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1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2" dur="20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4" dur="5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7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9" dur="2000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2000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5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0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8" dur="50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1" dur="50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4" dur="50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2.22222E-006 C -0.00972 0.00208 -0.01944 0.00324 -0.02916 0.00555 C -0.03472 0.00694 -0.04583 0.01111 -0.04583 0.01111 C -0.05191 0.02176 -0.05625 0.02847 -0.05833 0.04166 C -0.05989 0.05092 -0.0625 0.06944 -0.0625 0.06944 C -0.0618 0.09352 -0.06215 0.11759 -0.06041 0.14143 C -0.05937 0.15532 -0.04948 0.16736 -0.04166 0.175 C -0.02378 0.1919 -0.00364 0.19815 0.01667 0.20833 C 0.03473 0.20555 0.05295 0.2044 0.07084 0.2 C 0.07813 0.19815 0.08438 0.1912 0.09167 0.18889 C 0.10556 0.175 0.11545 0.15532 0.125 0.13611 C 0.12986 0.08449 0.14202 0.02847 0.11667 -0.01667 C 0.11598 -0.02037 0.11615 -0.02454 0.11459 -0.02778 C 0.11164 -0.0338 0.10556 -0.03611 0.10209 -0.04167 C 0.08212 -0.07361 0.13264 -0.00371000000000001 0.08334 -0.06945 C 0.08108 -0.07246 0.07743 -0.07246 0.075 -0.075 C 0.05851 -0.09213 0.06719 -0.09722 0.03959 -0.10834 C 0.02066 -0.11597 0.00209 -0.12477 -0.01666 -0.13334 C -0.03472 -0.14167 -0.05746 -0.15486 -0.07708 -0.16111 C -0.11198 -0.17222 -0.14982 -0.17593 -0.18541 -0.18056 C -0.2118 -0.17963 -0.23819 -0.18009 -0.26458 -0.17778 C -0.26892 -0.17732 -0.27291 -0.17431 -0.27708 -0.17222 C -0.29201 -0.16482 -0.30121 -0.15996 -0.31458 -0.15278 C -0.33645 -0.14097 -0.34618 -0.10695 -0.35416 -0.08056 C -0.35625 -0.0632 -0.36215 -0.05047 -0.36458 -0.03334 C -0.36718 -0.01574 -0.37083 0.01944 -0.37083 0.01944 C -0.36875 0.05602 -0.37222 0.0912 -0.35833 0.12222 C -0.35034 0.15972 -0.35955 0.12338 -0.34375 0.16389 C -0.34027 0.17268 -0.32847 0.21366 -0.31875 0.22778 C -0.3033 0.25023 -0.28333 0.26666 -0.26458 0.28333 C -0.26163 0.28588 -0.2592 0.28935 -0.25625 0.29166 C -0.25225 0.29491 -0.24774 0.29676 -0.24375 0.3 C -0.23993 0.30324 -0.2375 0.30879 -0.23333 0.31088 C -0.22882 0.31366 -0.22361 0.3125 -0.21875 0.31389 C -0.20625 0.31713 -0.19392 0.32315 -0.18125 0.32477 C -0.175 0.32592 -0.16875 0.32639 -0.1625 0.32778 C -0.14652 0.33102 -0.11458 0.33866 -0.11458 0.33866 C -0.07291 0.33541 -0.03073 0.33727 0.01042 0.32778 C 0.03542 0.32199 0.05625 0.30717 0.08125 0.3 C 0.12084 0.26389 0.10209 0.27616 0.13542 0.25833 C 0.1816 0.18634 0.1099 0.29352 0.16667 0.225 C 0.18056 0.20833 0.19202 0.18842 0.20417 0.16921 C 0.21216 0.15671 0.21945 0.14352 0.22709 0.13055 C 0.22986 0.12592 0.23542 0.11666 0.23542 0.11666 C 0.23976 0.09375 0.24098 0.07291 0.25 0.05278 C 0.25365 0.01828 0.25643 -0.01343 0.24792 -0.04722 C 0.24705 -0.05047 0.24341 -0.05047 0.24167 -0.05278 C 0.23299 -0.06435 0.23212 -0.06736 0.22084 -0.075 C 0.20591 -0.08496 0.18889 -0.08681 0.17292 -0.09445 C 0.15521 -0.10301 0.17535 -0.1007 0.14584 -0.10556 C 0.13542 -0.10718 0.125 -0.10741 0.11459 -0.10834 C 0.08056 -0.10741 0.04653 -0.10718 0.0125 -0.10556 C -0.00972 -0.10463 -0.03194 -0.09722 -0.05416 -0.09445 C -0.08628 -0.08148 -0.12257 -0.07523 -0.15208 -0.05278 C -0.17864 -0.03241 -0.14774 -0.05116 -0.17083 -0.03056 C -0.17604 -0.02593 -0.18194 -0.02315 -0.1875 -0.01945 C -0.21267 0.02523 -0.22899 0.05995 -0.2375 0.11666 C -0.2368 0.13333 -0.23784 0.15 -0.23541 0.16666 C -0.23489 0.16991 -0.23073 0.16967 -0.22916 0.17222 C -0.22795 0.1743 -0.22534 0.19051 -0.225 0.19166 C -0.22413 0.19444 -0.2151 0.21041 -0.21458 0.21111 C -0.20364 0.22569 -0.20955 0.21389 -0.19791 0.225 C -0.19045 0.23217 -0.19375 0.23426 -0.18541 0.23889 C -0.15764 0.25486 -0.19305 0.23102 -0.17083 0.24444 C -0.14392 0.26065 -0.13333 0.26296 -0.10208 0.26666 C -0.0875 0.26574 -0.07291 0.26551 -0.05833 0.26389 C -0.04843 0.26273 -0.04427 0.25116 -0.0375 0.24722 C -0.03368 0.24491 -0.02916 0.24537 -0.025 0.24444 C -0.01024 0.22477 -0.00833 0.22639 0.01042 0.21389 C 0.01181 0.21018 0.01233 0.20555 0.01459 0.20278 C 0.03143 0.18287 0.02535 0.20069 0.03542 0.18333 C 0.04236 0.17153 0.05851 0.14467 0.0625 0.13055 C 0.06459 0.12291 0.06632 0.11551 0.06875 0.10833 C 0.07431 0.0919 0.08334 0.0743 0.08334 0.05555 E">
                                      <p:cBhvr>
                                        <p:cTn id="234" dur="3000" fill="hold"/>
                                        <p:tgtEl>
                                          <p:spTgt spid="6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2.22222E-006 C -0.00243 0.02291 -0.00278 0.02153 -0.0125 0.03889 C -0.01736 0.05833 -0.0125 0.0537 -0.02292 0.05833 C -0.03056 0.07176 -0.03976 0.08472 -0.05209 0.08889 C -0.08507 0.12176 -0.06059 0.10116 -0.15417 0.09166 C -0.17136 0.08981 -0.18299 0.07592 -0.19792 0.06666 C -0.23698 0.04259 -0.27969 0.0044 -0.30417 -0.04445 C -0.30486 -0.05 -0.30504 -0.05579 -0.30625 -0.06111 C -0.30712 -0.06505 -0.30973 -0.06829 -0.31042 -0.07222 C -0.31181 -0.08033 -0.31181 -0.08889 -0.3125 -0.09722 C -0.31111 -0.1507 -0.31511 -0.20185 -0.2875 -0.24445 C -0.28004 -0.25602 -0.26389 -0.2794 -0.25209 -0.28889 C -0.24896 -0.29144 -0.24514 -0.29283 -0.24167 -0.29445 C -0.2375 -0.29653 -0.22917 -0.3 -0.22917 -0.3 C -0.19636 -0.29584 -0.15018 -0.30648 -0.1375 -0.25556 C -0.13941 -0.22593 -0.13681 -0.17986 -0.15209 -0.15278 C -0.15625 -0.13125 -0.15955 -0.11343 -0.17292 -0.1 C -0.18768 -0.06574 -0.20591 -0.04329 -0.22709 -0.01667 C -0.23629 -0.00509 -0.24514 0.00741 -0.25417 0.01944 C -0.25729 0.02361 -0.25903 0.02963 -0.2625 0.03333 C -0.28698 0.05879 -0.32969 0.09305 -0.36042 0.1 C -0.38125 0.09815 -0.40209 0.0956 -0.42292 0.09444 C -0.4257 0.09421 -0.41667 0.1 -0.41459 0.09722 C -0.4125 0.09444 -0.41598 0.08981 -0.41667 0.08611 C -0.41459 0.08333 -0.41042 0.08171 -0.41042 0.07778 C -0.41042 0.07315 -0.41511 0.07083 -0.41667 0.06666 C -0.41997 0.05856 -0.4224 0.05023 -0.425 0.04166 C -0.43247 0.01713 -0.43594 -0.0088 -0.44375 -0.03334 C -0.44723 -0.09028 -0.44792 -0.08426 -0.44375 -0.16667 C -0.44271 -0.1882 -0.4349 -0.2081 -0.42917 -0.22778 C -0.42188 -0.25301 -0.41736 -0.28172 -0.40834 -0.30556 C -0.40174 -0.32315 -0.39045 -0.34283 -0.38125 -0.35834 C -0.37848 -0.37315 -0.37361 -0.37662 -0.36667 -0.38889 C -0.36216 -0.40672 -0.35052 -0.41505 -0.3375 -0.41945 C -0.32622 -0.4294 -0.33438 -0.42408 -0.31459 -0.42778 C -0.3007 -0.43033 -0.27292 -0.43611 -0.27292 -0.43611 C -0.2132 -0.4294 -0.23664 -0.43334 -0.19584 -0.41667 C -0.18681 -0.41297 -0.18056 -0.40718 -0.17292 -0.4 C -0.16875 -0.39607 -0.16042 -0.38889 -0.16042 -0.38889 C -0.15677 -0.36898 -0.1507 -0.37523 -0.14375 -0.35834 C -0.13351 -0.3331 -0.14393 -0.34306 -0.12917 -0.33334 C -0.12622 -0.31713 -0.11754 -0.30023 -0.11042 -0.28611 C -0.10504 -0.25741 -0.10938 -0.27014 -0.09792 -0.24722 C -0.08177 -0.16158 -0.08611 -0.27408 -0.09375 -0.06389 C -0.09445 -0.04283 -0.09827 -0.02338 -0.10625 -0.00556 C -0.10816 0.00509 -0.1099 0.01759 -0.1125 0.02778 C -0.11598 0.04143 -0.12327 0.05023 -0.12917 0.06111 C -0.13091 0.06458 -0.13125 0.06898 -0.13334 0.07222 C -0.1408 0.08379 -0.15313 0.08773 -0.1625 0.09444 C -0.16563 0.09676 -0.16789 0.10046 -0.17084 0.10278 C -0.17726 0.10764 -0.18264 0.10879 -0.18959 0.11111 C -0.21528 0.10995 -0.24184 0.11458 -0.26667 0.10555 C -0.27604 0.10208 -0.28229 0.09491 -0.29167 0.09166 C -0.29532 0.08866 -0.31059 0.07731 -0.3125 0.07222 C -0.31372 0.06875 -0.31111 0.06481 -0.31042 0.06111 C -0.33108 -0.00323999999999999 -0.32049 -0.0757 -0.29792 -0.13611 C -0.29601 -0.14144 -0.29618 -0.14815 -0.29375 -0.15278 C -0.29115 -0.15834 -0.28646 -0.16158 -0.28334 -0.16667 C -0.27396 -0.18195 -0.27604 -0.18611 -0.26459 -0.2 C -0.26164 -0.20371 -0.25729 -0.20486 -0.25417 -0.20834 C -0.23021 -0.23449 -0.21962 -0.25672 -0.18959 -0.26667 C -0.16858 -0.28357 -0.19045 -0.26736 -0.16667 -0.28056 C -0.16007 -0.28426 -0.15452 -0.29097 -0.14792 -0.29445 C -0.13473 -0.30139 -0.12709 -0.30093 -0.1125 -0.30278 C -0.06111 -0.32153 -0.08525 -0.31574 0.00833 -0.30834 C 0.01076 -0.3081 0.01232 -0.30417 0.01458 -0.30278 C 0.01892 -0.3 0.02725 -0.29838 0.03125 -0.29722 C 0.03854 -0.28241 0.04323 -0.26783 0.05 -0.25278 C 0.05173 -0.24329 0.05607 -0.23472 0.05625 -0.225 C 0.05677 -0.2 0.05607 -0.175 0.05416 -0.15 C 0.05399 -0.14699 0.05104 -0.14468 0.05 -0.14167 C 0.04218 -0.11644 0.03941 -0.09977 0.02708 -0.07778 C 0.02621 -0.07222 0.02586 -0.05556 0.01875 -0.05556 E">
                                      <p:cBhvr>
                                        <p:cTn id="236" dur="5000" fill="hold"/>
                                        <p:tgtEl>
                                          <p:spTgt spid="6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798 -0.02129 0.01753 -0.0449 0.03541 -0.05277 C 0.05486 -0.0787 0.07118 -0.09004 0.09791 -0.09444 C 0.1158 -0.10648 0.11597 -0.10254 0.14166 -0.1 C 0.15173 -0.09004 0.16267 -0.08194 0.17291 -0.07222 C 0.17569 -0.06944 0.17847 -0.06643 0.18125 -0.06389 C 0.18541 -0.05995 0.19375 -0.05277 0.19375 -0.05277 C 0.19774 -0.03703 0.20642 -0.02453 0.21041 -0.00833 C 0.2118 0.01366 0.21666 0.03889 0.2125 0.06111 C 0.21198 0.06436 0.20937 0.06644 0.20833 0.06945 C 0.19948 0.09283 0.19496 0.09861 0.17916 0.11389 C 0.1717 0.12107 0.16892 0.12963 0.16041 0.13334 C 0.14687 0.14699 0.12899 0.15 0.1125 0.15278 C 0.10208 0.15186 0.09149 0.15232 0.08125 0.15 C 0.07239 0.14792 0.06441 0.12477 0.05833 0.11667 C 0.0533 0.09653 0.05659 0.10486 0.05 0.09167 C 0.04531 0.05394 0.05139 0.03287 0.05625 0 C 0.05711 -0.00555 0.05659 -0.01157 0.05833 -0.01666 C 0.05955 -0.02037 0.06284 -0.02176 0.06458 -0.025 C 0.06632 -0.02847 0.06753 -0.03217 0.06875 -0.03611 C 0.07621 -0.06111 0.06857 -0.0449 0.07916 -0.06389 C 0.08055 -0.06944 0.0809 -0.07569 0.08333 -0.08055 C 0.09444 -0.10277 0.0934 -0.0912 0.10416 -0.10555 C 0.10659 -0.10879 0.10781 -0.11365 0.11041 -0.11666 C 0.11961 -0.12754 0.13177 -0.13449 0.14166 -0.14444 C 0.14444 -0.14722 0.14687 -0.15069 0.15 -0.15277 C 0.1526 -0.15439 0.15555 -0.15463 0.15833 -0.15555 C 0.17222 -0.17407 0.15729 -0.15671 0.17083 -0.16666 C 0.19514 -0.18472 0.17152 -0.17245 0.19583 -0.18333 C 0.19791 -0.18426 0.20989 -0.19699 0.21041 -0.19722 C 0.21302 -0.19884 0.21614 -0.19861 0.21875 -0.2 C 0.2217 -0.20139 0.22413 -0.20393 0.22708 -0.20555 C 0.23107 -0.20764 0.23958 -0.21111 0.23958 -0.21111 C 0.26458 -0.20926 0.28975 -0.20926 0.31458 -0.20555 C 0.325 -0.20393 0.34461 -0.19421 0.35625 -0.19166 C 0.36232 -0.18634 0.36961 -0.18426 0.375 -0.17777 C 0.38437 -0.16666 0.39323 -0.15347 0.40208 -0.14166 C 0.4085 -0.1331 0.41128 -0.12338 0.41875 -0.11666 C 0.4217 -0.10509 0.42604 -0.10139 0.43125 -0.09166 C 0.43993 -0.07546 0.44166 -0.0625 0.45416 -0.05 C 0.45937 -0.02939 0.46111 -0.03125 0.47083 -0.01389 C 0.47274 -0.0037 0.47517 0.00648 0.47708 0.01667 C 0.47604 0.0588 0.48055 0.10278 0.4625 0.13889 C 0.45885 0.15834 0.46302 0.14213 0.45416 0.16111 C 0.44461 0.18172 0.45573 0.1625 0.44583 0.18611 C 0.44149 0.19653 0.43489 0.20486 0.42916 0.21389 C 0.4276 0.21644 0.42708 0.22037 0.425 0.22223 C 0.42257 0.22431 0.41944 0.22408 0.41666 0.225 C 0.40902 0.24005 0.40034 0.24098 0.38958 0.25 C 0.35833 0.27616 0.32569 0.29028 0.28958 0.3 C 0.28107 0.30232 0.27291 0.30926 0.26458 0.31111 C 0.25642 0.31297 0.24791 0.31297 0.23958 0.31389 C 0.22777 0.31297 0.2158 0.31343 0.20416 0.31111 C 0.19392 0.30903 0.18159 0.3007 0.17083 0.29699 C 0.16007 0.28773 0.14757 0.28033 0.13541 0.27477 C 0.12899 0.26644 0.12309 0.26297 0.11458 0.25834 C 0.11059 0.25625 0.10208 0.25278 0.10208 0.25278 C 0.08593 0.23125 0.06892 0.22523 0.05208 0.20834 C 0.03489 0.19121 0.01927 0.17292 0.00416 0.15278 C 0.00173 0.13936 -0.00469 0.13218 -0.00834 0.11945 C -0.01146 0.10787 -0.01354 0.09908 -0.01875 0.08889 C -0.01945 0.08519 -0.01979 0.08125 -0.02084 0.07778 C -0.02188 0.07454 -0.02414 0.07246 -0.025 0.06945 C -0.03455 0.03449 -0.02396 0.05764 -0.03334 0.03889 C -0.03455 0.03172 -0.03768 0.01713 -0.0375 0.01111 C -0.03646 -0.03379 -0.03733 -0.125 0.00625 -0.14444 C 0.01319 -0.14352 0.02048 -0.14444 0.02708 -0.14166 C 0.02986 -0.14051 0.03107 -0.13588 0.03333 -0.13333 C 0.04479 -0.12014 0.05607 -0.10324 0.06458 -0.08611 C 0.06527 -0.0824 0.0658 -0.0787 0.06666 -0.075 C 0.06788 -0.06944 0.07083 -0.05833 0.07083 -0.05833 C 0.06979 -0.02592 0.07864 0.01343 0.05625 0.03334 C 0.05347 0.04468 0.04809 0.04838 0.03958 0.05255 C 0.03698 0.05394 0.03125 0.05556 0.03125 0.05556 E">
                                      <p:cBhvr>
                                        <p:cTn id="238" dur="5000" fill="hold"/>
                                        <p:tgtEl>
                                          <p:spTgt spid="6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903 0.00741 0.02101 0.01065 0.02709 0.02222 C 0.02969 0.02708 0.01459 0.02778 0.01459 0.02778 C 0.00556 0.06389 0.01077 0.03866 0.00625 0.10556 C 0.00695 0.11852 0.00556 0.13194 0.00834 0.14444 C 0.01007 0.15255 0.02587 0.1588 0.03125 0.16111 C 0.03334 0.16389 0.03507 0.16736 0.0375 0.16944 C 0.03941 0.17106 0.04393 0.16921 0.04375 0.17222 C 0.04236 0.19861 0.0382 0.20347 0.02917 0.21944 C 0.0316 0.26227 0.02622 0.2456 0.03959 0.27222 C 0.04098 0.275 0.04236 0.27778 0.04375 0.28056 C 0.04514 0.28333 0.04792 0.28889 0.04792 0.28889 C 0.04723 0.29722 0.0474 0.30579 0.04584 0.31389 C 0.04462 0.31991 0.04098 0.32477 0.03959 0.33056 C 0.04323 0.36389 0.03698 0.34097 0.04792 0.35556 C 0.04966 0.35787 0.05035 0.36157 0.05209 0.36389 C 0.05695 0.37037 0.07084 0.375 0.07084 0.375 C 0.07657 0.35231 0.06806 0.38819 0.075 0.34167 C 0.07587 0.33588 0.07917 0.325 0.07917 0.325 C 0.07622 0.29954 0.06875 0.28796 0.08334 0.275 C 0.09236 0.25694 0.08143 0.275 0.09584 0.26389 C 0.11771 0.24722 0.08889 0.26134 0.10834 0.25278 C 0.11823 0.23287 0.11545 0.24259 0.11875 0.225 C 0.11719 0.21296 0.11164 0.19398 0.11667 0.18056 C 0.12032 0.1706 0.13125 0.1662 0.13125 0.15278 E">
                                      <p:cBhvr>
                                        <p:cTn id="240" dur="5000" fill="hold"/>
                                        <p:tgtEl>
                                          <p:spTgt spid="6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625 0.00556 0.0125 0.00834 0.01875 0.01389 C 0.01667 0.02037 0.0158 0.02778 0.0125 0.03334 C 0.00938 0.03843 0.00417 0.04075 0 0.04445 C -0.00208 0.0463 -0.00625 0.05 -0.00625 0.05 C -0.0099 0.06436 -0.01181 0.07315 -0.00833 0.08889 C -0.00694 0.09491 -0.00347 0.09977 -0.00208 0.10556 C -0.00139 0.11575 -0.00226 0.12639 0 0.13612 C 0.00156 0.14283 0.02153 0.14537 0.02708 0.14723 C 0.03021 0.15973 0.03472 0.1713 0.04167 0.18056 C 0.04514 0.19954 0.04896 0.19422 0.06458 0.19723 C 0.06528 0.2 0.06528 0.20325 0.06667 0.20556 C 0.07031 0.21181 0.07917 0.22223 0.07917 0.22223 C 0.08611 0.2213 0.0934 0.22223 0.1 0.21945 C 0.10486 0.21737 0.10833 0.21204 0.1125 0.20834 C 0.11632 0.20487 0.12118 0.20348 0.125 0.2 C 0.12587 0.20325 0.1283 0.21528 0.13125 0.21667 C 0.13403 0.21783 0.13681 0.21482 0.13958 0.21389 C 0.15156 0.19005 0.13559 0.21806 0.15 0.20278 C 0.15191 0.2007 0.15243 0.19676 0.15417 0.19445 C 0.1559 0.19213 0.15833 0.19075 0.16042 0.18889 C 0.16997 0.19098 0.1783 0.19422 0.1875 0.19723 C 0.19462 0.20348 0.2 0.20556 0.20833 0.20834 C 0.21528 0.20741 0.22309 0.21019 0.22917 0.20556 C 0.23299 0.20255 0.2309 0.19375 0.23333 0.18889 C 0.23872 0.17801 0.23507 0.18172 0.24375 0.17778 C 0.25139 0.17871 0.25938 0.17778 0.26667 0.18056 C 0.26944 0.18172 0.27066 0.18635 0.27292 0.18889 C 0.2809 0.19815 0.27934 0.1963 0.2875 0.2 C 0.29028 0.19815 0.29288 0.19607 0.29583 0.19445 C 0.29983 0.19237 0.30833 0.18889 0.30833 0.18889 C 0.31146 0.16389 0.31806 0.14815 0.33125 0.13056 C 0.33264 0.125 0.33507 0.11968 0.33542 0.11389 C 0.33628 0.09908 0.33507 0.07014 0.34375 0.05556 C 0.35191 0.0419 0.35399 0.04098 0.3625 0.03334 C 0.36389 0.03056 0.36667 0.02825 0.36667 0.025 C 0.36667 0.01968 0.36267 -0.00625 0.36042 -0.01666 C 0.3599 -0.01944 0.35972 -0.02268 0.35833 -0.025 C 0.35677 -0.02754 0.35417 -0.0287 0.35208 -0.03055 C 0.34983 -0.03981 0.35226 -0.03888 0.34792 -0.03888 E">
                                      <p:cBhvr>
                                        <p:cTn id="242" dur="5000" fill="hold"/>
                                        <p:tgtEl>
                                          <p:spTgt spid="6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125 0.00417 0.00973 0.00741 0.01875 0.01944 C 0.01806 0.02407 0.01893 0.02963 0.01667 0.03333 C 0.01355 0.03866 0.00764 0.03981 0.00417 0.04444 C -0.00764 0.06019 -0.02118 0.05903 -0.0375 0.06111 C -0.03941 0.06181 -0.04965 0.06481 -0.05208 0.06667 C -0.05642 0.06991 -0.06458 0.07778 -0.06458 0.07778 C -0.06718 0.08796 -0.07135 0.09606 -0.075 0.10556 C -0.07656 0.12546 -0.07222 0.16157 -0.0875 0.175 C -0.09687 0.19375 -0.08576 0.17546 -0.09791 0.18611 C -0.11441 0.20069 -0.08923 0.1919 -0.12083 0.19722 C -0.1368 0.20579 -0.12864 0.19931 -0.14375 0.21944 C -0.14583 0.22222 -0.15 0.22778 -0.15 0.22778 C -0.15121 0.23426 -0.15416 0.24051 -0.15416 0.24722 C -0.15416 0.29005 -0.14184 0.29907 -0.11875 0.32222 C -0.1118 0.32917 -0.10937 0.33796 -0.10208 0.34444 C -0.09635 0.36736 -0.09722 0.35532 -0.1 0.38056 C -0.09791 0.39815 -0.09826 0.41667 -0.09375 0.43333 C -0.08958 0.44861 -0.07725 0.45093 -0.06875 0.45833 C -0.05555 0.45741 -0.04236 0.45764 -0.02916 0.45556 C -0.01111 0.45278 -0.00121 0.43218 0.01042 0.41667 C 0.01389 0.40301 0.01407 0.38889 0.01667 0.375 C 0.01823 0.35648 0.01702 0.33727 0.02084 0.31944 C 0.0217 0.31505 0.03073 0.30787 0.03334 0.30556 C 0.03664 0.29213 0.03907 0.29676 0.04792 0.28889 C 0.05157 0.27454 0.06042 0.27477 0.06459 0.25833 C 0.06927 0.23935 0.06632 0.25278 0.07084 0.21667 C 0.07188 0.1963 0.06927 0.16157 0.08542 0.14722 C 0.10417 0.13056 0.0783 0.16065 0.09792 0.13889 C 0.10677 0.12917 0.10886 0.11991 0.1125 0.10556 C 0.1132 0.10278 0.11459 0.09722 0.11459 0.09722 C 0.11528 0.08611 0.11702 0.075 0.11667 0.06389 C 0.11632 0.05069 0.1125 0.025 0.1125 0.025 E">
                                      <p:cBhvr>
                                        <p:cTn id="244" dur="5000" fill="hold"/>
                                        <p:tgtEl>
                                          <p:spTgt spid="6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8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1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4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" nodeType="with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257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0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3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6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9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2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5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0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37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40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43" dur="5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46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49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2" dur="5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7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68" dur="20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72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xit" presetID="7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77" dur="2000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2000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81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30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3" dur="30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30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9" dur="20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02" dur="20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06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11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14" dur="5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0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24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losari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3200" spc="-1" strike="noStrike">
                <a:solidFill>
                  <a:srgbClr val="000000"/>
                </a:solidFill>
                <a:latin typeface="Arial"/>
              </a:rPr>
              <a:t>A lo largo de estos módulos encontrarás palabras y términos impresos en color </a:t>
            </a:r>
            <a:r>
              <a:rPr b="0" lang="es-PR" sz="3200" spc="-1" strike="noStrike">
                <a:solidFill>
                  <a:srgbClr val="0000ff"/>
                </a:solidFill>
                <a:latin typeface="Arial"/>
              </a:rPr>
              <a:t>azul</a:t>
            </a:r>
            <a:r>
              <a:rPr b="0" lang="es-PR" sz="3200" spc="-1" strike="noStrike">
                <a:solidFill>
                  <a:srgbClr val="000000"/>
                </a:solidFill>
                <a:latin typeface="Arial"/>
              </a:rPr>
              <a:t>.  Estas palabras y términos se definen en el Glosario, que se puede abrir haciendo </a:t>
            </a:r>
            <a:r>
              <a:rPr b="0" lang="es-PR" sz="32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clic aquí</a:t>
            </a:r>
            <a:r>
              <a:rPr b="0" lang="es-PR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Footer Placeholder 4"/>
          <p:cNvSpPr/>
          <p:nvPr/>
        </p:nvSpPr>
        <p:spPr>
          <a:xfrm>
            <a:off x="2286000" y="6620040"/>
            <a:ext cx="46483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pyright April 2009 The Pennsylvania State Un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l esquema precedente mostró los cuatro pasos básicos de la nanofabricación del tipo                   “arriba hacia abajo”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Crescimiento o deposició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dició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Litografía</a:t>
            </a: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ransferencia de patró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Arial"/>
              </a:rPr>
              <a:t>Grabado</a:t>
            </a: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sustració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Modificación de materi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para cambiar las propiedades eléctricas, ópticas, mecánicas o químicas en alguna región de la cap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Footer Placeholder 4"/>
          <p:cNvSpPr/>
          <p:nvPr/>
        </p:nvSpPr>
        <p:spPr>
          <a:xfrm>
            <a:off x="2362320" y="6620040"/>
            <a:ext cx="441936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opyright April 2009 The Pennsylvania State Un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tenid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Rectangle 3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o que es nanofabricaci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ómo y qué se hace por nanofabricaci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ómo se orienta la nanofabricaci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na visión general de la nanofabricación de arriba hacia abajo y de abajo hacia arriba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anofabricación de arriba hacia abaj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ff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Nanofabricación de abajo hacia arrib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deas clav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Footer Placeholder 4"/>
          <p:cNvSpPr/>
          <p:nvPr/>
        </p:nvSpPr>
        <p:spPr>
          <a:xfrm>
            <a:off x="2362320" y="6620040"/>
            <a:ext cx="441936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opyright April 2009 The Pennsylvania State Un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Text Box 2"/>
          <p:cNvSpPr/>
          <p:nvPr/>
        </p:nvSpPr>
        <p:spPr>
          <a:xfrm>
            <a:off x="0" y="457200"/>
            <a:ext cx="914400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Nanofabricación del tip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rriba Hacia Abajo” siempre combina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Text Box 3"/>
          <p:cNvSpPr/>
          <p:nvPr/>
        </p:nvSpPr>
        <p:spPr>
          <a:xfrm>
            <a:off x="838080" y="1981080"/>
            <a:ext cx="8001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Fabricación de los Elementos de construcción</a:t>
            </a: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 (moléculas, partículas,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 capas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Auto Ensamblaj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362320" y="6620040"/>
            <a:ext cx="441936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opyright April 2009 The Pennsylvania State Un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R" sz="4000" spc="-1" strike="noStrike">
                <a:solidFill>
                  <a:srgbClr val="000000"/>
                </a:solidFill>
                <a:latin typeface="Arial"/>
              </a:rPr>
              <a:t>El procedimiento de la nanofabricación del tipo “Abajo Hacia Arriba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 puede usar cualquier secuencia de los dos pasos (fabricación de los elementos de construcción y auto ensamblaje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 puede brincar uno de los pas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secuencia comienza con la fabricación de los elementos de construc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ede emplear un proceso inherente de transferencia de patrón (debido al tam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ño, a la forma o un enlace químico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Footer Placeholder 4"/>
          <p:cNvSpPr/>
          <p:nvPr/>
        </p:nvSpPr>
        <p:spPr>
          <a:xfrm>
            <a:off x="2362320" y="6620040"/>
            <a:ext cx="441936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opyright April 2009 The Pennsylvania State Un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Oval 2"/>
          <p:cNvSpPr/>
          <p:nvPr/>
        </p:nvSpPr>
        <p:spPr>
          <a:xfrm>
            <a:off x="1295280" y="838080"/>
            <a:ext cx="6553440" cy="5029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Rectangle 4"/>
          <p:cNvSpPr/>
          <p:nvPr/>
        </p:nvSpPr>
        <p:spPr>
          <a:xfrm>
            <a:off x="3429000" y="533520"/>
            <a:ext cx="1828800" cy="9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abricación 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os materi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Rectangle 6"/>
          <p:cNvSpPr/>
          <p:nvPr/>
        </p:nvSpPr>
        <p:spPr>
          <a:xfrm>
            <a:off x="3352680" y="5105520"/>
            <a:ext cx="198144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u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nsambla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AutoShape 7"/>
          <p:cNvSpPr/>
          <p:nvPr/>
        </p:nvSpPr>
        <p:spPr>
          <a:xfrm rot="4563600">
            <a:off x="5334120" y="5562360"/>
            <a:ext cx="380880" cy="380880"/>
          </a:xfrm>
          <a:prstGeom prst="flowChartMerg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AutoShape 8"/>
          <p:cNvSpPr/>
          <p:nvPr/>
        </p:nvSpPr>
        <p:spPr>
          <a:xfrm rot="10078800">
            <a:off x="1143000" y="3657240"/>
            <a:ext cx="380880" cy="380880"/>
          </a:xfrm>
          <a:prstGeom prst="flowChartMerg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AutoShape 9"/>
          <p:cNvSpPr/>
          <p:nvPr/>
        </p:nvSpPr>
        <p:spPr>
          <a:xfrm rot="14991000">
            <a:off x="3048120" y="914400"/>
            <a:ext cx="380880" cy="380880"/>
          </a:xfrm>
          <a:prstGeom prst="flowChartMerg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AutoShape 10"/>
          <p:cNvSpPr/>
          <p:nvPr/>
        </p:nvSpPr>
        <p:spPr>
          <a:xfrm rot="19674600">
            <a:off x="7391160" y="2209320"/>
            <a:ext cx="380880" cy="387360"/>
          </a:xfrm>
          <a:prstGeom prst="flowChartMerg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Rectangle 11"/>
          <p:cNvSpPr/>
          <p:nvPr/>
        </p:nvSpPr>
        <p:spPr>
          <a:xfrm>
            <a:off x="3124080" y="2590920"/>
            <a:ext cx="2571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La Metodología de Fabricación del tipo “Abajo Hacia Arriba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Footer Placeholder 4"/>
          <p:cNvSpPr/>
          <p:nvPr/>
        </p:nvSpPr>
        <p:spPr>
          <a:xfrm>
            <a:off x="2362320" y="6620040"/>
            <a:ext cx="441936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opyright April 2009 The Pennsylvania State Un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TextBox 12"/>
          <p:cNvSpPr/>
          <p:nvPr/>
        </p:nvSpPr>
        <p:spPr>
          <a:xfrm>
            <a:off x="3657600" y="6248520"/>
            <a:ext cx="144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Cortesía de CNE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/>
          </p:nvPr>
        </p:nvSpPr>
        <p:spPr>
          <a:xfrm>
            <a:off x="0" y="9144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eamos un ejemplo de como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 usa la nanofabricación de tipo “abajo hacia arriba” para hacer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structuras a nanoescal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Footer Placeholder 4"/>
          <p:cNvSpPr/>
          <p:nvPr/>
        </p:nvSpPr>
        <p:spPr>
          <a:xfrm>
            <a:off x="2362320" y="6620040"/>
            <a:ext cx="441936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opyright April 2009 The Pennsylvania State Un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Rectangle 2"/>
          <p:cNvSpPr/>
          <p:nvPr/>
        </p:nvSpPr>
        <p:spPr>
          <a:xfrm>
            <a:off x="-685800" y="76320"/>
            <a:ext cx="10439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jemplo de una Secuencia del Proce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 Fabricación del tipo “Abajo Hacia Arriba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Text Box 18"/>
          <p:cNvSpPr/>
          <p:nvPr/>
        </p:nvSpPr>
        <p:spPr>
          <a:xfrm>
            <a:off x="2133000" y="1600200"/>
            <a:ext cx="494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 Funcionaliza la Nanopartícu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Text Box 19"/>
          <p:cNvSpPr/>
          <p:nvPr/>
        </p:nvSpPr>
        <p:spPr>
          <a:xfrm>
            <a:off x="2501640" y="1905120"/>
            <a:ext cx="409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 Enlaza con Anticuerp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Text Box 20"/>
          <p:cNvSpPr/>
          <p:nvPr/>
        </p:nvSpPr>
        <p:spPr>
          <a:xfrm>
            <a:off x="2565360" y="2209680"/>
            <a:ext cx="397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 Enlaza con el Antíge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Text Box 21"/>
          <p:cNvSpPr/>
          <p:nvPr/>
        </p:nvSpPr>
        <p:spPr>
          <a:xfrm>
            <a:off x="2374560" y="1295280"/>
            <a:ext cx="434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 Sintetiza la Nanopartícu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Footer Placeholder 4"/>
          <p:cNvSpPr/>
          <p:nvPr/>
        </p:nvSpPr>
        <p:spPr>
          <a:xfrm>
            <a:off x="2362320" y="6620040"/>
            <a:ext cx="441936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opyright April 2009 The Pennsylvania State Un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2" name="Group 34"/>
          <p:cNvGrpSpPr/>
          <p:nvPr/>
        </p:nvGrpSpPr>
        <p:grpSpPr>
          <a:xfrm>
            <a:off x="2799720" y="2829960"/>
            <a:ext cx="3086280" cy="4015080"/>
            <a:chOff x="2799720" y="2829960"/>
            <a:chExt cx="3086280" cy="4015080"/>
          </a:xfrm>
        </p:grpSpPr>
        <p:sp>
          <p:nvSpPr>
            <p:cNvPr id="763" name="Oval 3"/>
            <p:cNvSpPr/>
            <p:nvPr/>
          </p:nvSpPr>
          <p:spPr>
            <a:xfrm>
              <a:off x="4448880" y="4551840"/>
              <a:ext cx="281160" cy="2862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64" name="Group 4"/>
            <p:cNvGrpSpPr/>
            <p:nvPr/>
          </p:nvGrpSpPr>
          <p:grpSpPr>
            <a:xfrm>
              <a:off x="3886200" y="4122360"/>
              <a:ext cx="914040" cy="1431720"/>
              <a:chOff x="3886200" y="4122360"/>
              <a:chExt cx="914040" cy="1431720"/>
            </a:xfrm>
          </p:grpSpPr>
          <p:sp>
            <p:nvSpPr>
              <p:cNvPr id="765" name="Line 5"/>
              <p:cNvSpPr/>
              <p:nvPr/>
            </p:nvSpPr>
            <p:spPr>
              <a:xfrm>
                <a:off x="3956400" y="4122360"/>
                <a:ext cx="210960" cy="357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6" name="Line 6"/>
              <p:cNvSpPr/>
              <p:nvPr/>
            </p:nvSpPr>
            <p:spPr>
              <a:xfrm flipH="1">
                <a:off x="4589280" y="4122360"/>
                <a:ext cx="210960" cy="357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7" name="Line 7"/>
              <p:cNvSpPr/>
              <p:nvPr/>
            </p:nvSpPr>
            <p:spPr>
              <a:xfrm>
                <a:off x="4589280" y="5196240"/>
                <a:ext cx="210960" cy="357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8" name="Line 8"/>
              <p:cNvSpPr/>
              <p:nvPr/>
            </p:nvSpPr>
            <p:spPr>
              <a:xfrm flipV="1">
                <a:off x="3886200" y="5196240"/>
                <a:ext cx="281160" cy="357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9" name="Group 9"/>
            <p:cNvGrpSpPr/>
            <p:nvPr/>
          </p:nvGrpSpPr>
          <p:grpSpPr>
            <a:xfrm>
              <a:off x="3534480" y="3763440"/>
              <a:ext cx="1617120" cy="2219760"/>
              <a:chOff x="3534480" y="3763440"/>
              <a:chExt cx="1617120" cy="2219760"/>
            </a:xfrm>
          </p:grpSpPr>
          <p:sp>
            <p:nvSpPr>
              <p:cNvPr id="770" name="Line 10"/>
              <p:cNvSpPr/>
              <p:nvPr/>
            </p:nvSpPr>
            <p:spPr>
              <a:xfrm flipV="1">
                <a:off x="3956400" y="3763440"/>
                <a:ext cx="69840" cy="358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Line 11"/>
              <p:cNvSpPr/>
              <p:nvPr/>
            </p:nvSpPr>
            <p:spPr>
              <a:xfrm>
                <a:off x="3604320" y="3978360"/>
                <a:ext cx="351720" cy="143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Line 12"/>
              <p:cNvSpPr/>
              <p:nvPr/>
            </p:nvSpPr>
            <p:spPr>
              <a:xfrm flipV="1">
                <a:off x="4800240" y="3763440"/>
                <a:ext cx="0" cy="358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Line 13"/>
              <p:cNvSpPr/>
              <p:nvPr/>
            </p:nvSpPr>
            <p:spPr>
              <a:xfrm flipV="1">
                <a:off x="4800240" y="3907080"/>
                <a:ext cx="351360" cy="21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" name="Line 14"/>
              <p:cNvSpPr/>
              <p:nvPr/>
            </p:nvSpPr>
            <p:spPr>
              <a:xfrm>
                <a:off x="4800240" y="5554080"/>
                <a:ext cx="351360" cy="21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5" name="Line 15"/>
              <p:cNvSpPr/>
              <p:nvPr/>
            </p:nvSpPr>
            <p:spPr>
              <a:xfrm flipV="1">
                <a:off x="4800240" y="5553720"/>
                <a:ext cx="0" cy="42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Line 16"/>
              <p:cNvSpPr/>
              <p:nvPr/>
            </p:nvSpPr>
            <p:spPr>
              <a:xfrm flipV="1">
                <a:off x="3534480" y="5553720"/>
                <a:ext cx="351360" cy="142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Line 17"/>
              <p:cNvSpPr/>
              <p:nvPr/>
            </p:nvSpPr>
            <p:spPr>
              <a:xfrm flipV="1">
                <a:off x="3885840" y="5554080"/>
                <a:ext cx="0" cy="357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8" name="Oval 22"/>
            <p:cNvSpPr/>
            <p:nvPr/>
          </p:nvSpPr>
          <p:spPr>
            <a:xfrm>
              <a:off x="4026600" y="4551840"/>
              <a:ext cx="281160" cy="2862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Oval 23"/>
            <p:cNvSpPr/>
            <p:nvPr/>
          </p:nvSpPr>
          <p:spPr>
            <a:xfrm>
              <a:off x="4097160" y="4838040"/>
              <a:ext cx="281160" cy="2865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Oval 24"/>
            <p:cNvSpPr/>
            <p:nvPr/>
          </p:nvSpPr>
          <p:spPr>
            <a:xfrm>
              <a:off x="4237560" y="4408560"/>
              <a:ext cx="281160" cy="2865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Oval 25"/>
            <p:cNvSpPr/>
            <p:nvPr/>
          </p:nvSpPr>
          <p:spPr>
            <a:xfrm>
              <a:off x="4378680" y="4838040"/>
              <a:ext cx="280800" cy="2865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AutoShape 26"/>
            <p:cNvSpPr/>
            <p:nvPr/>
          </p:nvSpPr>
          <p:spPr>
            <a:xfrm rot="2111400">
              <a:off x="2971440" y="5626080"/>
              <a:ext cx="1054800" cy="930600"/>
            </a:xfrm>
            <a:custGeom>
              <a:avLst/>
              <a:gdLst>
                <a:gd name="textAreaLeft" fmla="*/ 344160 w 1054800"/>
                <a:gd name="textAreaRight" fmla="*/ 710640 w 1054800"/>
                <a:gd name="textAreaTop" fmla="*/ 303480 h 930600"/>
                <a:gd name="textAreaBottom" fmla="*/ 627120 h 930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7046" y="7046"/>
                  </a:lnTo>
                  <a:lnTo>
                    <a:pt x="10800" y="0"/>
                  </a:lnTo>
                  <a:lnTo>
                    <a:pt x="14554" y="7046"/>
                  </a:lnTo>
                  <a:lnTo>
                    <a:pt x="21600" y="10800"/>
                  </a:lnTo>
                  <a:lnTo>
                    <a:pt x="14554" y="14554"/>
                  </a:lnTo>
                  <a:lnTo>
                    <a:pt x="10800" y="21600"/>
                  </a:lnTo>
                  <a:lnTo>
                    <a:pt x="7046" y="1455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AutoShape 27"/>
            <p:cNvSpPr/>
            <p:nvPr/>
          </p:nvSpPr>
          <p:spPr>
            <a:xfrm rot="8747400">
              <a:off x="3112200" y="3119400"/>
              <a:ext cx="1054800" cy="930960"/>
            </a:xfrm>
            <a:custGeom>
              <a:avLst/>
              <a:gdLst>
                <a:gd name="textAreaLeft" fmla="*/ 344160 w 1054800"/>
                <a:gd name="textAreaRight" fmla="*/ 710640 w 1054800"/>
                <a:gd name="textAreaTop" fmla="*/ 303480 h 930960"/>
                <a:gd name="textAreaBottom" fmla="*/ 627480 h 930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7046" y="7046"/>
                  </a:lnTo>
                  <a:lnTo>
                    <a:pt x="10800" y="0"/>
                  </a:lnTo>
                  <a:lnTo>
                    <a:pt x="14554" y="7046"/>
                  </a:lnTo>
                  <a:lnTo>
                    <a:pt x="21600" y="10800"/>
                  </a:lnTo>
                  <a:lnTo>
                    <a:pt x="14554" y="14554"/>
                  </a:lnTo>
                  <a:lnTo>
                    <a:pt x="10800" y="21600"/>
                  </a:lnTo>
                  <a:lnTo>
                    <a:pt x="7046" y="1455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AutoShape 28"/>
            <p:cNvSpPr/>
            <p:nvPr/>
          </p:nvSpPr>
          <p:spPr>
            <a:xfrm rot="12888600">
              <a:off x="4659480" y="3047400"/>
              <a:ext cx="1054800" cy="930600"/>
            </a:xfrm>
            <a:custGeom>
              <a:avLst/>
              <a:gdLst>
                <a:gd name="textAreaLeft" fmla="*/ 344160 w 1054800"/>
                <a:gd name="textAreaRight" fmla="*/ 710640 w 1054800"/>
                <a:gd name="textAreaTop" fmla="*/ 303480 h 930600"/>
                <a:gd name="textAreaBottom" fmla="*/ 627120 h 930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7046" y="7046"/>
                  </a:lnTo>
                  <a:lnTo>
                    <a:pt x="10800" y="0"/>
                  </a:lnTo>
                  <a:lnTo>
                    <a:pt x="14554" y="7046"/>
                  </a:lnTo>
                  <a:lnTo>
                    <a:pt x="21600" y="10800"/>
                  </a:lnTo>
                  <a:lnTo>
                    <a:pt x="14554" y="14554"/>
                  </a:lnTo>
                  <a:lnTo>
                    <a:pt x="10800" y="21600"/>
                  </a:lnTo>
                  <a:lnTo>
                    <a:pt x="7046" y="1455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AutoShape 29"/>
            <p:cNvSpPr/>
            <p:nvPr/>
          </p:nvSpPr>
          <p:spPr>
            <a:xfrm rot="19536600">
              <a:off x="4659840" y="5697360"/>
              <a:ext cx="1054800" cy="930960"/>
            </a:xfrm>
            <a:custGeom>
              <a:avLst/>
              <a:gdLst>
                <a:gd name="textAreaLeft" fmla="*/ 344160 w 1054800"/>
                <a:gd name="textAreaRight" fmla="*/ 710640 w 1054800"/>
                <a:gd name="textAreaTop" fmla="*/ 303480 h 930960"/>
                <a:gd name="textAreaBottom" fmla="*/ 627480 h 930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7046" y="7046"/>
                  </a:lnTo>
                  <a:lnTo>
                    <a:pt x="10800" y="0"/>
                  </a:lnTo>
                  <a:lnTo>
                    <a:pt x="14554" y="7046"/>
                  </a:lnTo>
                  <a:lnTo>
                    <a:pt x="21600" y="10800"/>
                  </a:lnTo>
                  <a:lnTo>
                    <a:pt x="14554" y="14554"/>
                  </a:lnTo>
                  <a:lnTo>
                    <a:pt x="10800" y="21600"/>
                  </a:lnTo>
                  <a:lnTo>
                    <a:pt x="7046" y="1455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Oval 30"/>
            <p:cNvSpPr/>
            <p:nvPr/>
          </p:nvSpPr>
          <p:spPr>
            <a:xfrm>
              <a:off x="4237560" y="4623480"/>
              <a:ext cx="281160" cy="2865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TextBox 31"/>
            <p:cNvSpPr/>
            <p:nvPr/>
          </p:nvSpPr>
          <p:spPr>
            <a:xfrm>
              <a:off x="3815640" y="6413760"/>
              <a:ext cx="14770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ortesía de CNEU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nodeType="clickEffect" fill="hold">
                      <p:stCondLst>
                        <p:cond delay="0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10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10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43" dur="5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9" dur="10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53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10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63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151920" y="53316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R" sz="3800" spc="-1" strike="noStrike">
                <a:solidFill>
                  <a:srgbClr val="000000"/>
                </a:solidFill>
                <a:latin typeface="Arial"/>
              </a:rPr>
              <a:t>El esquema precedente mostró los dos pasos básicos de la nanofabricación del tipo             “</a:t>
            </a: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abajo hacia arriba”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75438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Fabricación de los Bloques de Construcción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moléculas, partículas, o capas - los elementos básicos de la nanofabricación del tipo “abajo hacia arriba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Ensamblaje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 los bloques de construcción en nanoestructuras funcionales. Este paso usualmente se llama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auto ensambla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 el ejemplo, un patrón inherente fue logrado medianate los enlaces químicos posi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Footer Placeholder 4"/>
          <p:cNvSpPr/>
          <p:nvPr/>
        </p:nvSpPr>
        <p:spPr>
          <a:xfrm>
            <a:off x="2362320" y="6620040"/>
            <a:ext cx="441936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opyright April 2009 The Pennsylvania State Un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tenid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Rectangle 3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o que es nanofabricaci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ómo y qué se hace por nanofabricaci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ómo se orienta la nanofabricaci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na visión general de la nanofabricación de arriba hacia abajo y de abajo hacia arriba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anofabricación de arriba hacia abaj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anofabricación de abajo hacia arrib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Ideas clave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Footer Placeholder 4"/>
          <p:cNvSpPr/>
          <p:nvPr/>
        </p:nvSpPr>
        <p:spPr>
          <a:xfrm>
            <a:off x="2362320" y="6620040"/>
            <a:ext cx="441936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opyright April 2009 The Pennsylvania State Un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deas cla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46784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566640" indent="-5666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 construcción de Nanoestructuras se llama Nanofabric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y dos tipos de Nanofabricación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1) Nanofabricación de “Arriba Hacia Abajo” 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) “Abajo Hacia Arriba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  La combinación de las dos se llama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nofabricación Híbri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Footer Placeholder 4"/>
          <p:cNvSpPr/>
          <p:nvPr/>
        </p:nvSpPr>
        <p:spPr>
          <a:xfrm>
            <a:off x="2362320" y="6620040"/>
            <a:ext cx="441936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opyright April 2009 The Pennsylvania State Un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tenid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o que es nanofabricaci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ómo y qué se hace por nanofabricaci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ómo se orienta la nanofabricaci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na visión general de la nanofabricación de arriba hacia abajo y de abajo hacia arriba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anofabricación de arriba hacia abaj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anofabricación de abajo hacia arrib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deas clav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Footer Placeholder 4"/>
          <p:cNvSpPr/>
          <p:nvPr/>
        </p:nvSpPr>
        <p:spPr>
          <a:xfrm>
            <a:off x="2362320" y="6620040"/>
            <a:ext cx="441936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opyright April 2009 The Pennsylvania State Un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deas claves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(continuación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86868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  Nanofabricación de “Arriba Hacia Abajo” hace estructuras a partir de capas y usa procesos de deposición/remoción guiados por un patrón definido mediante litografía. También puede incluir pasos de modificación de materi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  Nanofabricación de “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Abajo Hacia Arriba” se basa en los métodos empleados para hacer circuitos microelectrónicos; o sea, estructuras cuidadosamente controladas, dónde pequ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ñas dimensiones 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son logradas mediante deposición de capas de material y remoción del mismo en ciertas partes dónde no se desea que esté. Estos pasos son guiados por la litografí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Footer Placeholder 4"/>
          <p:cNvSpPr/>
          <p:nvPr/>
        </p:nvSpPr>
        <p:spPr>
          <a:xfrm>
            <a:off x="2362320" y="6620040"/>
            <a:ext cx="441936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opyright April 2009 The Pennsylvania State Un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deas claves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(continuación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. Nanofabricación de “Abajo Hacia Arriba” ensambla materiales pre construidos. Puede ser aleatoria o puede seguir un patrón inherente impuesto por los enlaces, el tam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ño o forma de los materi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. Nanofabricación de “Abajo Hacia Arriba” usa átomos, moléculas y nanopartículas, auto ensamblando estos componentes para lograr la estructura dese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Footer Placeholder 4"/>
          <p:cNvSpPr/>
          <p:nvPr/>
        </p:nvSpPr>
        <p:spPr>
          <a:xfrm>
            <a:off x="2362320" y="6620040"/>
            <a:ext cx="441936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opyright April 2009 The Pennsylvania State Un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Text Box 2"/>
          <p:cNvSpPr/>
          <p:nvPr/>
        </p:nvSpPr>
        <p:spPr>
          <a:xfrm>
            <a:off x="0" y="736560"/>
            <a:ext cx="9144000" cy="67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Este módulo, producido por el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Center for Nanotechnology “Education and Utilization a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The Pennsylvania State University”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es uno de una serie desarrollada para introducir la nanotecnología y sus aplicaciones a una amplia audiencia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Cada módulo, sus fichas de componentes visuales y el Glosario de acompañante son derechos autorales (Copyright 2009)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 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“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The Pennsylvania State University”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Todos los derechos están reservad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Footer Placeholder 3"/>
          <p:cNvSpPr/>
          <p:nvPr/>
        </p:nvSpPr>
        <p:spPr>
          <a:xfrm>
            <a:off x="2743200" y="6620040"/>
            <a:ext cx="411480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pyright April 2009 The Pennsylvania State Un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tenid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3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Lo que es nanofabricaci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ómo y qué se hace por nanofabricaci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ómo se orienta la nanofabricaci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na visión general de la nanofabricación de arriba hacia abajo y de abajo hacia arriba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anofabricación de arriba hacia abaj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anofabricación de abajo hacia arrib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deas clav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Footer Placeholder 4"/>
          <p:cNvSpPr/>
          <p:nvPr/>
        </p:nvSpPr>
        <p:spPr>
          <a:xfrm>
            <a:off x="2362320" y="6620040"/>
            <a:ext cx="441936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opyright April 2009 The Pennsylvania State Un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36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acer “cosas” a nanoescala se llama </a:t>
            </a:r>
            <a:r>
              <a:rPr b="0" lang="en-US" sz="40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Nanofabric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Footer Placeholder 4"/>
          <p:cNvSpPr/>
          <p:nvPr/>
        </p:nvSpPr>
        <p:spPr>
          <a:xfrm>
            <a:off x="2362320" y="6620040"/>
            <a:ext cx="441936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opyright April 2009 The Pennsylvania State Un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Text Box 2"/>
          <p:cNvSpPr/>
          <p:nvPr/>
        </p:nvSpPr>
        <p:spPr>
          <a:xfrm>
            <a:off x="228600" y="152280"/>
            <a:ext cx="8763120" cy="47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ay tres</a:t>
            </a:r>
            <a:r>
              <a:rPr b="1" lang="es-PR" sz="4000" spc="-1" strike="noStrike">
                <a:solidFill>
                  <a:srgbClr val="000000"/>
                </a:solidFill>
                <a:latin typeface="Arial"/>
              </a:rPr>
              <a:t> enfoques diferentes para la nanofabricación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Nanofabricación del tipo 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Arial"/>
              </a:rPr>
              <a:t>arriba hacia abaj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Nanofabricación del tipo 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Arial"/>
              </a:rPr>
              <a:t>abajo hacia arrib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Nanofabricación híbri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Footer Placeholder 4"/>
          <p:cNvSpPr/>
          <p:nvPr/>
        </p:nvSpPr>
        <p:spPr>
          <a:xfrm>
            <a:off x="2362320" y="6620040"/>
            <a:ext cx="441936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opyright April 2009 The Pennsylvania State Un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tenid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Rectangle 3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o que es nanofabricaci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ff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Cómo y qué se hace por nanofabricaci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ómo se orienta la nanofabricaci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na visión general de la nanofabricación de arriba hacia abajo y de abajo hacia arriba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anofabricación de arriba hacia abaj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anofabricación de abajo hacia arrib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deas clav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Footer Placeholder 4"/>
          <p:cNvSpPr/>
          <p:nvPr/>
        </p:nvSpPr>
        <p:spPr>
          <a:xfrm>
            <a:off x="2362320" y="6620040"/>
            <a:ext cx="441936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opyright April 2009 The Pennsylvania State Un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Text Box 2"/>
          <p:cNvSpPr/>
          <p:nvPr/>
        </p:nvSpPr>
        <p:spPr>
          <a:xfrm>
            <a:off x="-1295280" y="1219320"/>
            <a:ext cx="1043928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Nanopartícula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por ejemplo, macro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léculas, cuenta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ubos, alambr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Estructuras planar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por ejemplo, estructur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minar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Estructuras Híbrida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mezclas de partículas y estructuras planar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 Box 3"/>
          <p:cNvSpPr/>
          <p:nvPr/>
        </p:nvSpPr>
        <p:spPr>
          <a:xfrm>
            <a:off x="0" y="15228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a nanotecnología usa la nanofabricación para hacer una amplia variedad de nanoestructur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0" name="Picture 4" descr=""/>
          <p:cNvPicPr/>
          <p:nvPr/>
        </p:nvPicPr>
        <p:blipFill>
          <a:blip r:embed="rId4"/>
          <a:stretch/>
        </p:blipFill>
        <p:spPr>
          <a:xfrm>
            <a:off x="5486400" y="2076480"/>
            <a:ext cx="1905120" cy="1452600"/>
          </a:xfrm>
          <a:prstGeom prst="rect">
            <a:avLst/>
          </a:prstGeom>
          <a:ln w="0">
            <a:noFill/>
          </a:ln>
        </p:spPr>
      </p:pic>
      <p:pic>
        <p:nvPicPr>
          <p:cNvPr id="531" name="Picture 5" descr=""/>
          <p:cNvPicPr/>
          <p:nvPr/>
        </p:nvPicPr>
        <p:blipFill>
          <a:blip r:embed="rId5"/>
          <a:stretch/>
        </p:blipFill>
        <p:spPr>
          <a:xfrm>
            <a:off x="5375160" y="3727440"/>
            <a:ext cx="2127240" cy="1627200"/>
          </a:xfrm>
          <a:prstGeom prst="rect">
            <a:avLst/>
          </a:prstGeom>
          <a:ln w="0">
            <a:noFill/>
          </a:ln>
        </p:spPr>
      </p:pic>
      <p:sp>
        <p:nvSpPr>
          <p:cNvPr id="532" name="Footer Placeholder 4"/>
          <p:cNvSpPr/>
          <p:nvPr/>
        </p:nvSpPr>
        <p:spPr>
          <a:xfrm>
            <a:off x="2362320" y="6620040"/>
            <a:ext cx="441936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opyright April 2009 The Pennsylvania State Un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Text Box 6"/>
          <p:cNvSpPr/>
          <p:nvPr/>
        </p:nvSpPr>
        <p:spPr>
          <a:xfrm>
            <a:off x="6343560" y="3519360"/>
            <a:ext cx="111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Evidenttech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Rectangle 7"/>
          <p:cNvSpPr/>
          <p:nvPr/>
        </p:nvSpPr>
        <p:spPr>
          <a:xfrm>
            <a:off x="7391520" y="3962520"/>
            <a:ext cx="1752480" cy="11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Adaptado de Linda Geppert, </a:t>
            </a:r>
            <a:r>
              <a:rPr b="0" i="1" lang="es-PR" sz="1000" spc="-1" strike="noStrike">
                <a:solidFill>
                  <a:srgbClr val="000000"/>
                </a:solidFill>
                <a:latin typeface="Arial"/>
              </a:rPr>
              <a:t>El increible acto de desvanecimiento de un transistor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IEEE Spectrum, Octubre de  2002, Vol. 39, Número 10, pg. 28-3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7T22:12:44Z</dcterms:created>
  <dc:creator>Rehrmann</dc:creator>
  <dc:description/>
  <dc:language>en-US</dc:language>
  <cp:lastModifiedBy>Director</cp:lastModifiedBy>
  <dcterms:modified xsi:type="dcterms:W3CDTF">2013-03-13T16:51:25Z</dcterms:modified>
  <cp:revision>416</cp:revision>
  <dc:subject/>
  <dc:title>Slide 1</dc:title>
</cp:coreProperties>
</file>